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7.jpeg" ContentType="image/jpeg"/>
  <Override PartName="/ppt/media/image6.jpeg" ContentType="image/jpeg"/>
  <Override PartName="/ppt/media/image11.jpeg" ContentType="image/jpeg"/>
  <Override PartName="/ppt/media/image9.jpeg" ContentType="image/jpeg"/>
  <Override PartName="/ppt/media/image7.jpeg" ContentType="image/jpeg"/>
  <Override PartName="/ppt/media/image23.wmf" ContentType="image/x-wmf"/>
  <Override PartName="/ppt/media/image28.jpeg" ContentType="image/jpeg"/>
  <Override PartName="/ppt/media/image12.jpeg" ContentType="image/jpeg"/>
  <Override PartName="/ppt/media/image10.jpeg" ContentType="image/jpeg"/>
  <Override PartName="/ppt/media/image8.jpeg" ContentType="image/jpeg"/>
  <Override PartName="/ppt/media/image1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jpeg" ContentType="image/jpeg"/>
  <Override PartName="/ppt/media/image30.png" ContentType="image/png"/>
  <Override PartName="/ppt/media/image3.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19.png" ContentType="image/png"/>
  <Override PartName="/ppt/media/image20.jpeg" ContentType="image/jpeg"/>
  <Override PartName="/ppt/media/image22.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3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32" name="PlaceHolder 2"/>
          <p:cNvSpPr>
            <a:spLocks noGrp="1"/>
          </p:cNvSpPr>
          <p:nvPr>
            <p:ph type="dt" idx="79"/>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3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5" name="PlaceHolder 5"/>
          <p:cNvSpPr>
            <a:spLocks noGrp="1"/>
          </p:cNvSpPr>
          <p:nvPr>
            <p:ph type="ftr" idx="80"/>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6" name="PlaceHolder 6"/>
          <p:cNvSpPr>
            <a:spLocks noGrp="1"/>
          </p:cNvSpPr>
          <p:nvPr>
            <p:ph type="sldNum" idx="81"/>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D9CB884-68DB-4886-AAC1-389875C06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1181160" y="696960"/>
            <a:ext cx="4648320" cy="3486240"/>
          </a:xfrm>
          <a:prstGeom prst="rect">
            <a:avLst/>
          </a:prstGeom>
          <a:ln w="0">
            <a:noFill/>
          </a:ln>
        </p:spPr>
      </p:sp>
      <p:sp>
        <p:nvSpPr>
          <p:cNvPr id="213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se appendices are on the main page of the NGSS.  Appendix D is accompanied by seven case studies.</a:t>
            </a:r>
            <a:endParaRPr b="0" lang="en-US" sz="1200" spc="-1" strike="noStrike">
              <a:solidFill>
                <a:srgbClr val="000000"/>
              </a:solidFill>
              <a:latin typeface="Calibri"/>
            </a:endParaRPr>
          </a:p>
        </p:txBody>
      </p:sp>
      <p:sp>
        <p:nvSpPr>
          <p:cNvPr id="21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0DCF456-8FE2-4C97-ADA7-544E1DC857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81160" y="696960"/>
            <a:ext cx="4648320" cy="3486240"/>
          </a:xfrm>
          <a:prstGeom prst="rect">
            <a:avLst/>
          </a:prstGeom>
          <a:ln w="0">
            <a:noFill/>
          </a:ln>
        </p:spPr>
      </p:sp>
      <p:sp>
        <p:nvSpPr>
          <p:cNvPr id="213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Once Delaware adopts the NGSS, we will spend 2013-2014 making stakeholders familiar with the layout and the expectations of the standards.  The following year (2014-2015) is when the state (and districts) will review curriculum and make decisions about whether current curricula and instructional practices meet the demands of NGSS.</a:t>
            </a:r>
            <a:endParaRPr b="0" lang="en-US" sz="1200" spc="-1" strike="noStrike">
              <a:solidFill>
                <a:srgbClr val="000000"/>
              </a:solidFill>
              <a:latin typeface="Calibri"/>
            </a:endParaRPr>
          </a:p>
        </p:txBody>
      </p:sp>
      <p:sp>
        <p:nvSpPr>
          <p:cNvPr id="21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24F333F-9525-42AB-B5C8-6029DD0260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1181160" y="696960"/>
            <a:ext cx="4648320" cy="3486240"/>
          </a:xfrm>
          <a:prstGeom prst="rect">
            <a:avLst/>
          </a:prstGeom>
          <a:ln w="0">
            <a:noFill/>
          </a:ln>
        </p:spPr>
      </p:sp>
      <p:sp>
        <p:nvSpPr>
          <p:cNvPr id="214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Important to realize that teachers and districts will decide to what extent an instructional unit will encompass these Performance Expectations.  Many instructional units at different grades will likely address the same Performance Expectations at different cognitive levels.</a:t>
            </a:r>
            <a:endParaRPr b="0" lang="en-US" sz="1200" spc="-1" strike="noStrike">
              <a:solidFill>
                <a:srgbClr val="000000"/>
              </a:solidFill>
              <a:latin typeface="Calibri"/>
            </a:endParaRPr>
          </a:p>
        </p:txBody>
      </p:sp>
      <p:sp>
        <p:nvSpPr>
          <p:cNvPr id="21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6B48A81-AE24-476F-8683-EB8B3C15EE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81160" y="696960"/>
            <a:ext cx="4648320" cy="3486240"/>
          </a:xfrm>
          <a:prstGeom prst="rect">
            <a:avLst/>
          </a:prstGeom>
          <a:ln w="0">
            <a:noFill/>
          </a:ln>
        </p:spPr>
      </p:sp>
      <p:sp>
        <p:nvSpPr>
          <p:cNvPr id="214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Please don’t hesitate to contact me for any other questions that may arise.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81160" y="696960"/>
            <a:ext cx="4648320" cy="3486240"/>
          </a:xfrm>
          <a:prstGeom prst="rect">
            <a:avLst/>
          </a:prstGeom>
          <a:ln w="0">
            <a:noFill/>
          </a:ln>
        </p:spPr>
      </p:sp>
      <p:sp>
        <p:nvSpPr>
          <p:cNvPr id="2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2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B9BAEBE-FB6E-4587-B367-49B01B8974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81160" y="696960"/>
            <a:ext cx="4648320" cy="3486240"/>
          </a:xfrm>
          <a:prstGeom prst="rect">
            <a:avLst/>
          </a:prstGeom>
          <a:ln w="0">
            <a:noFill/>
          </a:ln>
        </p:spPr>
      </p:sp>
      <p:sp>
        <p:nvSpPr>
          <p:cNvPr id="21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Most drastic shifts for Delaware:</a:t>
            </a:r>
            <a:br>
              <a:rPr sz="1200"/>
            </a:br>
            <a:br>
              <a:rPr sz="1200"/>
            </a:br>
            <a:r>
              <a:rPr b="0" lang="en-US" sz="1200" spc="-1" strike="noStrike">
                <a:solidFill>
                  <a:srgbClr val="000000"/>
                </a:solidFill>
                <a:latin typeface="Noteworthy Bold"/>
                <a:ea typeface="Noteworthy Bold"/>
              </a:rPr>
              <a:t>2.  Standards are no longer a “laundry list” of content to be taught.  It will not be appropriate to “check off the performance expectations as we do them.”</a:t>
            </a:r>
            <a:br>
              <a:rPr sz="1200"/>
            </a:br>
            <a:br>
              <a:rPr sz="1200"/>
            </a:br>
            <a:r>
              <a:rPr b="0" lang="en-US" sz="1200" spc="-1" strike="noStrike">
                <a:solidFill>
                  <a:srgbClr val="000000"/>
                </a:solidFill>
                <a:latin typeface="Noteworthy Bold"/>
                <a:ea typeface="Noteworthy Bold"/>
              </a:rPr>
              <a:t>5.  In the old standards, many of the engineering applications were listed as “compact” and therefore, optional.  Now, these applications are center stage.</a:t>
            </a:r>
            <a:br>
              <a:rPr sz="1200"/>
            </a:br>
            <a:br>
              <a:rPr sz="1200"/>
            </a:br>
            <a:r>
              <a:rPr b="0" lang="en-US" sz="1200" spc="-1" strike="noStrike">
                <a:solidFill>
                  <a:srgbClr val="000000"/>
                </a:solidFill>
                <a:latin typeface="Noteworthy Bold"/>
                <a:ea typeface="Noteworthy Bold"/>
              </a:rPr>
              <a:t>7.  This is not “Common Core for science.”  However, specific entry points to Common Core concepts are stated explicitly.  These entry points can and should be talking points during PLCs, especially those based on grade level rather than conten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81160" y="696960"/>
            <a:ext cx="4648320" cy="3486240"/>
          </a:xfrm>
          <a:prstGeom prst="rect">
            <a:avLst/>
          </a:prstGeom>
          <a:ln w="0">
            <a:noFill/>
          </a:ln>
        </p:spPr>
      </p:sp>
      <p:sp>
        <p:nvSpPr>
          <p:cNvPr id="212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Practices:  Specific statements of what students should do during a lesson.  All Performance Expectations begin with a Practice.</a:t>
            </a:r>
            <a:br>
              <a:rPr sz="1200"/>
            </a:br>
            <a:br>
              <a:rPr sz="1200"/>
            </a:br>
            <a:r>
              <a:rPr b="0" lang="en-US" sz="1200" spc="-1" strike="noStrike">
                <a:solidFill>
                  <a:srgbClr val="000000"/>
                </a:solidFill>
                <a:latin typeface="Calibri"/>
              </a:rPr>
              <a:t>Cross-cutting concepts:  These are topics found in science that transcend all science classes.  These concepts enable students to make sense of the Disciplinary Core Ideas.  They are tools for students to use, and it is important that they be used by the students in the language of science.</a:t>
            </a:r>
            <a:br>
              <a:rPr sz="1200"/>
            </a:br>
            <a:br>
              <a:rPr sz="1200"/>
            </a:br>
            <a:r>
              <a:rPr b="0" lang="en-US" sz="1200" spc="-1" strike="noStrike">
                <a:solidFill>
                  <a:srgbClr val="000000"/>
                </a:solidFill>
                <a:latin typeface="Calibri"/>
              </a:rPr>
              <a:t>Disciplinary Core Ideas—this is the content.  </a:t>
            </a:r>
            <a:endParaRPr b="0" lang="en-US" sz="1200" spc="-1" strike="noStrike">
              <a:solidFill>
                <a:srgbClr val="000000"/>
              </a:solidFill>
              <a:latin typeface="Calibri"/>
            </a:endParaRPr>
          </a:p>
        </p:txBody>
      </p:sp>
      <p:sp>
        <p:nvSpPr>
          <p:cNvPr id="21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ABFD303-A47F-4358-92A5-5A1B29F610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81160" y="696960"/>
            <a:ext cx="4648320" cy="3486240"/>
          </a:xfrm>
          <a:prstGeom prst="rect">
            <a:avLst/>
          </a:prstGeom>
          <a:ln w="0">
            <a:noFill/>
          </a:ln>
        </p:spPr>
      </p:sp>
      <p:sp>
        <p:nvSpPr>
          <p:cNvPr id="212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e.g. modeling</a:t>
            </a:r>
            <a:endParaRPr b="0" lang="en-US" sz="1200" spc="-1" strike="noStrike">
              <a:solidFill>
                <a:srgbClr val="000000"/>
              </a:solidFill>
              <a:latin typeface="Calibri"/>
            </a:endParaRPr>
          </a:p>
        </p:txBody>
      </p:sp>
      <p:sp>
        <p:nvSpPr>
          <p:cNvPr id="21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06FD956-C42C-4824-B8D1-50A9E82209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1181160" y="696960"/>
            <a:ext cx="4648320" cy="3486240"/>
          </a:xfrm>
          <a:prstGeom prst="rect">
            <a:avLst/>
          </a:prstGeom>
          <a:ln w="0">
            <a:noFill/>
          </a:ln>
        </p:spPr>
      </p:sp>
      <p:sp>
        <p:nvSpPr>
          <p:cNvPr id="213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bricks represent the Disciplinary Core Ideas.  This is the main substance of our practice.</a:t>
            </a:r>
            <a:br>
              <a:rPr sz="1200"/>
            </a:br>
            <a:br>
              <a:rPr sz="1200"/>
            </a:br>
            <a:r>
              <a:rPr b="0" lang="en-US" sz="1200" spc="-1" strike="noStrike">
                <a:solidFill>
                  <a:srgbClr val="000000"/>
                </a:solidFill>
                <a:latin typeface="Calibri"/>
              </a:rPr>
              <a:t>The mortar represents the Cross Cutting Concepts.  They hold the Disciplinary Core Ideas together.  Without these, our instruction becomes teaching a bunch of isolated facts without cohesion.  Likewise, if all we teach are the Cross-cutting Concepts, our instruction is weak, and there’s no central basis for what we teach.</a:t>
            </a:r>
            <a:br>
              <a:rPr sz="1200"/>
            </a:br>
            <a:br>
              <a:rPr sz="1200"/>
            </a:br>
            <a:r>
              <a:rPr b="0" lang="en-US" sz="1200" spc="-1" strike="noStrike">
                <a:solidFill>
                  <a:srgbClr val="000000"/>
                </a:solidFill>
                <a:latin typeface="Calibri"/>
              </a:rPr>
              <a:t>The tools represent the Science and Engineering Practices.  We might have the greatest content and tie it together with strong cohesive Cross-Cutting Concepts.  However, if our students aren’t actually doing anything with this instruction, a structure of science understanding never can be achieved.</a:t>
            </a:r>
            <a:endParaRPr b="0" lang="en-US" sz="1200" spc="-1" strike="noStrike">
              <a:solidFill>
                <a:srgbClr val="000000"/>
              </a:solidFill>
              <a:latin typeface="Calibri"/>
            </a:endParaRPr>
          </a:p>
        </p:txBody>
      </p:sp>
      <p:sp>
        <p:nvSpPr>
          <p:cNvPr id="21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DB34D5B-2418-45E5-BA14-A0D39E1388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1181160" y="696960"/>
            <a:ext cx="4648320" cy="3486240"/>
          </a:xfrm>
          <a:prstGeom prst="rect">
            <a:avLst/>
          </a:prstGeom>
          <a:ln w="0">
            <a:noFill/>
          </a:ln>
        </p:spPr>
      </p:sp>
      <p:sp>
        <p:nvSpPr>
          <p:cNvPr id="213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color coding is optional.  </a:t>
            </a:r>
            <a:endParaRPr b="0" lang="en-US" sz="1200" spc="-1" strike="noStrike">
              <a:solidFill>
                <a:srgbClr val="000000"/>
              </a:solidFill>
              <a:latin typeface="Calibri"/>
            </a:endParaRPr>
          </a:p>
        </p:txBody>
      </p:sp>
      <p:sp>
        <p:nvSpPr>
          <p:cNvPr id="21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FEAE142-184A-4292-A101-F539A9209B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B6FB10-34C1-4D44-9AE3-81FBBED8FD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1A9427E-E4CE-452D-B440-346BF20F4E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FA31B423-F58D-4487-A9B0-A716520555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3"/>
          </p:nvPr>
        </p:nvSpPr>
        <p:spPr/>
        <p:txBody>
          <a:bodyPr/>
          <a:p>
            <a:fld id="{EDEC8DBF-AAF4-453A-8DFE-BDDAEF2FA2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D7ED0453-C586-43AD-859D-8621F0BB8D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7F20B5F2-6FB6-4BDF-90AA-EDE9DF4EC4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7E2C525D-95F9-4C98-8A55-7822ADF0FF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9387B7C-3CB7-42A6-A191-7655BBDAE8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972B9906-CF1F-428B-94E1-F3949B74F1D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E2850F20-EBD3-4A52-8565-C9B0BC91E6B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7443202A-835B-4284-8C56-044E55CC2BD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10387E3-0BBA-44A2-84B4-660F63E362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B009F9D-3256-41B9-A318-D312155C790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23A23FB7-45EE-4D27-9C43-AFBED91FB5E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427F866E-C54D-4888-9EC1-ADF004A973E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A54A9458-8B54-4C9F-9BA1-2005B7A322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4"/>
          </p:nvPr>
        </p:nvSpPr>
        <p:spPr/>
        <p:txBody>
          <a:bodyPr/>
          <a:p>
            <a:fld id="{7D1FB5EE-500F-4513-98F3-3CFCED8AD7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1DC82EEA-438E-4B6F-964A-4DE02BF07D6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850511F-DE53-4DA1-93F5-5536629C7F5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82CDAA21-33A5-4824-B8F9-FDE9936FFF2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7F46752A-49BC-4F30-B1AF-E368E31C0E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F1D9B4B-4A14-43CA-AEB8-DE165048427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F77572BC-4DFE-49F0-8DCB-8977851AC0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CAD57A5-58E6-4081-B692-DE33DDBB02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6FC9B75B-74CA-4C6F-8CF2-A96D1E39F34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EA169E7-252D-452D-9AD1-50FFBA3B38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894004B-503F-40CA-8985-221C2AB071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2E5060A-8234-4BBC-B4E6-5AB1276D7B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CD80C44-2771-47E6-9A20-451005D8D46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5"/>
          </p:nvPr>
        </p:nvSpPr>
        <p:spPr/>
        <p:txBody>
          <a:bodyPr/>
          <a:p>
            <a:fld id="{FBC40698-97F0-4A13-9D2D-0F319D95FF2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26F2F92F-DA47-42D3-BDC0-E4CA6A2BDE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A949847-B063-458C-A736-648A7E68BD2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10B6127-35A2-495B-83FC-6A20F2EF415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93AD38E-069E-49C7-8B17-27BEA26D78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66ACBFC-EB13-4015-ABE8-8BA7ED277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31A2570-F2E4-4C06-9C0E-C1D649D402C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1B8D276F-2966-4ED9-83A5-5983E230AEE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84C283F-B9D5-437A-8A70-93AC150E516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BDB560F-86B4-46C9-B215-05D6CBA54A0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DABE2CF-E16C-48DD-8177-4D0FB098AA5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7BC2AED-DB27-4425-9362-A48BC64295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16F5627-20E3-4B63-A0D4-373E632A3E0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6"/>
          </p:nvPr>
        </p:nvSpPr>
        <p:spPr/>
        <p:txBody>
          <a:bodyPr/>
          <a:p>
            <a:fld id="{D7B0F6CB-AF3A-49DA-9602-1A75F9A66BF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5B9DB61-0556-4252-9867-BBCC7E55A46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5B0EC11-5411-4375-9B95-6D354B3ACE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12ACDB-44BB-42DD-8967-13D043350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C67D470-4C93-4D40-A606-4B17679D3EF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3C57863-93F4-43E2-8810-E4A413BE44A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F36035D-9172-4A18-8F8B-D08DB69C43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3487C6FE-9225-4F5B-96B4-4F5839D7EA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C03659EC-5695-40E1-BF7F-D186CE85983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84ABBE2-DA7C-4998-B591-46081612710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6A947F08-F59B-4B46-902E-EA8CE6A9DA7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CF8E1E4B-6C69-4899-A0C3-2E7A8AF67D4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EAC566BD-EEFF-43B4-B2F3-C5BFB4684B0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7"/>
          </p:nvPr>
        </p:nvSpPr>
        <p:spPr/>
        <p:txBody>
          <a:bodyPr/>
          <a:p>
            <a:fld id="{EB16D41F-3E6E-4DB9-AFCB-D39E291922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EEDCEF-0006-4248-B3F5-FABF42B22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4F351904-A7A1-45CE-90D4-255A00DD5A5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D1DB8B5D-88DF-4DA4-BE9A-0160FB76151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D2F89005-A796-4AE0-94EF-1C7FC53A811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A2C80FD0-7D3B-4A99-B212-7478758EFFF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626800BD-A3BB-405A-A34F-0E6E46BB70A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3F84EFC8-8199-410D-8948-2B41BA7256B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0D6F8B09-12BA-44E2-A9B2-E5ECF85F5E3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70BA7DC-1F52-459A-89CC-929528BC6B9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E77934B-3864-46BC-816A-39C00FB7AB0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33A636C5-54F2-4ABB-8C81-4B1072AD82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87D9E0-6228-475D-B202-FD3EB2DE7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FCD895CD-470F-4600-92EA-E21DE202499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8"/>
          </p:nvPr>
        </p:nvSpPr>
        <p:spPr/>
        <p:txBody>
          <a:bodyPr/>
          <a:p>
            <a:fld id="{D3BF4B24-5625-4668-AC24-4D70EC8F958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77A2941B-2E60-48DE-9DB8-C57BD54A8F0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4A19A684-D9E2-4949-AB86-73644B58054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E675549-04E8-4C38-B122-DAD051D6265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11DD4D7-7182-4136-B035-E7A55B32ABC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1B332C5B-5753-478E-A081-17EBE815627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5AC5146C-3934-4FB0-9A90-E253627A705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D46975A8-DF54-48F4-BBFF-D078012A87A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E6C1003-ED6C-4DF3-9F5D-23A1B58DF3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D49925-BD70-4762-A255-B01B36B2D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F1A3A92-7301-4F3B-9F4A-62DBCD9F5D9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A66DDB40-9539-4CFC-9E73-F02C748ED32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C236694D-9DCB-4CB9-AE49-1ED1C690A3C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9"/>
          </p:nvPr>
        </p:nvSpPr>
        <p:spPr/>
        <p:txBody>
          <a:bodyPr/>
          <a:p>
            <a:fld id="{81AF60F4-CA72-4152-9DDF-C68DDECB398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BA720B9B-449F-42D0-BBC8-B624167A151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AFD1B597-A825-4778-8A84-077DF421013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45E7D5B1-35F7-4909-BD89-E0062980498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0C5383A7-94AA-41EF-A964-9419A6A8676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5D9C7840-8115-498C-B6CE-CF26EB14C46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3EA09DCD-5750-4DCC-9AF9-410459EB96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E7D7CC-8813-4EAD-99A2-A85CA1B83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F4E4E389-1020-471C-835B-EB34213EF8F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8B714E3-9D8B-4B67-88AE-096B3392614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9665254-7D7F-4FB3-8C3B-59E03ADAF85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728659F-9C30-465C-B123-DFE0DAD31D5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2A14239-D923-4B75-BA4F-785914A436D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0"/>
          </p:nvPr>
        </p:nvSpPr>
        <p:spPr/>
        <p:txBody>
          <a:bodyPr/>
          <a:p>
            <a:fld id="{06A27E02-16B3-4167-9B12-EA2232FCDAF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81F104C-1649-4B18-AF39-BC844BDE06A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B1D1A4D-3BA0-49BD-9E4D-0A63E7AB9E5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25CE727-8DD8-4CAF-A9AC-D2DC9BBCA3B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61E55A8-8415-434D-B8EC-38F1EE7DED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F63810-2D9A-4AE9-ADD3-CC16222C1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028392F-F06A-444B-95A3-F015C79E847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11701EE1-1B74-4DDE-B66C-BD9CF7DBB92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C2F51DA-0EE9-4842-9746-4008E9910FF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F27826B-918E-4F7E-907C-7C7CA9526A6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0F1554C4-F8FE-4DEF-A8A1-DE16B849CE5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7C3B3102-3E93-4152-9F34-3187976A275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8DA6396D-00C8-4F01-9167-523C0D52295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1"/>
          </p:nvPr>
        </p:nvSpPr>
        <p:spPr/>
        <p:txBody>
          <a:bodyPr/>
          <a:p>
            <a:fld id="{65148396-E9CC-4C0B-AD58-154B27CBA30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B3E87F79-195D-486F-9634-E4633AE2795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86391E96-08A2-496A-90A2-F8CEFE76AA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EEE3797-A8AA-4786-AE22-73EA3342CF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1A7042-4EDA-4FA5-A471-5C7A888056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FF8EB0CA-AB99-479D-9FC9-F1AB73A8869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8D7BCC37-6884-411B-9221-CFAB0BB4260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224C4F6E-1723-41BC-B2C9-4CD0BDA7273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44DDB229-9B10-407D-82BB-EAA7A54B403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448F49B4-C1E8-4EE4-AB32-5F883A96479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9AF007E-5372-46E8-9AA5-901B3A64174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4BC3411-D504-4287-A0AF-6795CBD8C1F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B650187-F084-47D9-9E06-668CCFC5790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BA290D69-7782-4363-AABE-56CE3D4A0D6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2"/>
          </p:nvPr>
        </p:nvSpPr>
        <p:spPr/>
        <p:txBody>
          <a:bodyPr/>
          <a:p>
            <a:fld id="{482F4FE1-8B5D-4380-B65D-D233CEA72D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D13127-ED84-4243-8DA2-3DE34AEBEF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D8A4FD11-0DE9-4740-89E4-7D02870737D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7D05B0D6-6060-456B-AE29-185F9A646BF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46D4F16-2A6E-425E-9EA4-B9F53BB396C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F3C5ED2-1EA5-4D00-BB3A-56F240E12E1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E16F8506-44DE-49A7-9D02-67254217A26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8912C69C-E745-4D39-A1F0-3E00952F2A6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D619B213-548E-4AC9-B7E3-E0A8D92395E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5DC02BF-E456-412A-AC3C-2B485ADD93B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74CF85AC-7199-4F9A-9366-4788553BD8E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519C567E-219B-4B7D-BF54-77BF7EEDDB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E22CF2-2BAE-4571-AF5E-F75E6A760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4FCAF783-F15D-4DC3-9AC1-215CE6C4BB8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3"/>
          </p:nvPr>
        </p:nvSpPr>
        <p:spPr/>
        <p:txBody>
          <a:bodyPr/>
          <a:p>
            <a:fld id="{F7FC5CF8-AB2E-4FAF-9E4B-E0B863920B0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229E61BD-8976-40B8-9754-0DF5816C09A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2C81903B-41C2-422A-BE7D-CA0C6414FF8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AE3A91AA-5A07-413E-AAE5-C7BB6520041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0EE1DB63-33A0-449C-BB9E-25E09B9E4AE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BBDDE38C-CD24-4428-BDE7-AFCEDCC15FC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98BFA5C3-E497-496F-8E2D-6A1A2E6CC22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5CC87170-D0B5-459B-93D0-615643BD9F0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81EBF8B-CE61-484C-BE68-37D087ADBE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801759-BD55-46B3-BFE1-006CA56CBCE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F524DF4-AF6F-4BD3-96E6-9D522DB6F7D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2FA6BF1-4B0F-4D5E-A825-F04895F0D6B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3CBA2D4-A55B-4902-B41C-CE335778A08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4"/>
          </p:nvPr>
        </p:nvSpPr>
        <p:spPr/>
        <p:txBody>
          <a:bodyPr/>
          <a:p>
            <a:fld id="{6DDD8C42-CDFE-4DB3-969E-E31C60784D5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0FFD70F0-1CD0-49CB-9BB1-68F2AAF44F4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423D507-C2F4-4E30-AA2D-9DB58AEBA8F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346C4A4-56AD-49C8-9C1C-6D83A94A983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4E1270A-DCE5-4D57-9B25-2EC0DD163FA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C655B38-642D-45FF-8E52-604E262BD40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BC69C89A-DDE6-461B-8904-466295BEF6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D30681-5E39-4D3E-9836-BABBD05AC95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5272F4C-6B73-417A-AC8D-4B2C6769A0F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EF4B6A0-AB29-473F-B8CD-206ACA25E90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CF07C7C-8AB4-4F39-AED1-588143E1F78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CE19BFD-2B13-4B46-9AEA-0137882820B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FE953DA-DCE1-4515-A685-FEFD045A41F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5"/>
          </p:nvPr>
        </p:nvSpPr>
        <p:spPr/>
        <p:txBody>
          <a:bodyPr/>
          <a:p>
            <a:fld id="{1E258911-5092-46B5-A116-C2EC39074EF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60011654-B729-4C36-A6E7-1A6D7801355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87E31BC-459E-4847-BB4A-75E38B59643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36F0AD4-DEB6-4B41-A319-BBEA82241A9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364FB33-B63B-46C1-BC85-6BF5923DDB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E06868F-AE48-4405-9B6A-EEB19BF1F5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F8A201E-84D7-46B1-95F1-1CC50640B68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C89D9C3-423F-4048-9416-F30679091E0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72CA6C1F-E585-49B8-9E58-99DAC570779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5080564-FC88-48CE-9437-8496F4AE69C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1A5C4EB-4664-4E64-8EA8-6AAB50107A4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F433D05-DF79-4365-A50E-0AB955EAADA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49A1187-C607-4C52-8C91-BAA22AF7976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6"/>
          </p:nvPr>
        </p:nvSpPr>
        <p:spPr/>
        <p:txBody>
          <a:bodyPr/>
          <a:p>
            <a:fld id="{DB55A741-97A6-44EB-A564-C5BDA4BF595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C446687-360C-4A94-BC1E-82F712545FB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8BA223F-C8A4-4593-AAF5-0F249A7AED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A70FD1A-839E-43B8-B1A8-EF23B817260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08B406B-8C09-40C2-B9D8-E052966C6AA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5FA4C35-BD1A-4F4A-8752-3B501D80000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3F9A848-E25D-4888-A457-A340C5189E5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DA7E815-D357-49C3-8F24-6711238F40C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9BC1BAB6-BC3D-4886-8766-D281C45165C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B584EE3D-7648-4AEA-A3A7-0F41FF0A3C2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D502C982-623A-4918-B562-B723741E753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4BF177F9-28F8-4D2E-B168-1269FC5AF1D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1C543668-C287-4982-8173-50A4A5A8BB0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D7C90FFD-1A4B-4216-B397-BD1D3DE2E1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7BF9AAF-957B-4016-AFFA-028E01EEF3C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A08A358A-8820-4C21-AEB8-1D73AC19E37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5517849-C889-4F82-8D84-6C8C9219AA4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F174C6E1-8D27-4D54-A36B-73FA1DABFA1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CF92A94B-567D-4296-B51A-81534332436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68B7263B-4FE1-45E2-8C72-2C9E12EEC66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C4304474-92B3-415C-9AA3-ED4AFB4882B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9C50AF1D-FF52-4EDA-8705-E0842487C62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C00F935F-4D8E-4CEF-BF0E-C85C736E183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C79CCFE-BB9A-4101-909D-64FCB9B9E49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72DE035-D49A-4826-9699-633450B47D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47A5672-6C62-4BDA-9799-6916000C83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98E01BF-B7F4-4606-95DA-B88435D56E2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E255713-842B-4E20-B8A2-DDF6601CB97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D0620E5-239F-42EB-81B6-47C5E881DACB}"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8EE5264-24ED-44C2-9FDC-D5E70EACF0A4}"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18374B2-B3DD-46F2-97D1-862A49BA9A9B}"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55FA311-F3AD-42E1-B709-D661FE5636D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27862D6-3B3F-4EB1-8926-6F30A15AF9F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4AD19E8-3CC9-43AC-BCD8-C1D740BADA6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D348095-5F5B-4F25-BCC6-9A4D4D816C2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C22B6EC-55B6-4752-8AB7-E3F0DF95D2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98344D4-EACC-4E09-97AF-B0360C905D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3AE683F-65B8-49EF-A92B-42658FF845E4}"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F83D353-1446-47E3-8BBF-58C96EDF107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1EBE79F-6FAC-448A-B9C5-9C316BFD694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07D008B-D668-4751-8CB5-D60C7377822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F872A35-4375-4003-B60C-704EB2AB667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BD1881C-B7EA-4730-8820-2BC3F2A4AA9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3239EC0-E23E-4A06-ADF6-0B2C32DE68B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5860319-F57A-4334-B2B6-5E86BAFB25D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B9C3864-E607-4DB4-AD9B-49D8A4D57B8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861C82C-3A7F-4045-85AC-5C826193B2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D64FCC-774F-4601-9A1B-ECA4E70D94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71D7BC6-E749-4E90-A33F-8A753CA8AD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F1E4EF1-3274-403D-90EA-2CD757779B2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AEBEF82-68F3-41C2-B972-FF85BECB32F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78F1A114-218F-4454-BA00-C444D811594A}"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AF7064C1-E28B-4DD0-A036-4A8B7F44261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FFC17DCC-5C3E-46C9-8EBC-BD638E5FBDE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3"/>
          </p:nvPr>
        </p:nvSpPr>
        <p:spPr/>
        <p:txBody>
          <a:bodyPr/>
          <a:p>
            <a:fld id="{7FBAFD6A-17B0-40FD-9DC0-90A4E54B4BD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C1BD51E9-16CC-42FA-AB2E-1D72C1B26EC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9BD63B84-31B8-4A29-99E9-6B859757F35E}"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5A22D4D2-60AD-4371-A5E4-C76EF90DE5D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0576EFD7-E1DA-4127-ACB2-973AEC3860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F537019-6738-45A9-81B3-8617513AAA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25AB2CB6-F90A-4492-BE71-896298297DF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B110C6F1-58F7-4E24-8D88-52D0CB013DA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C4A85CBD-AD4E-44DB-BD93-6262CD32E7A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504248E4-228C-47D0-8C21-EC17D4EC5403}"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B67E0E3B-26ED-400A-9E11-1D9443B3E0D7}"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CFC6312B-FD92-4917-B142-B2E65FD2F41D}"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CC68FF1B-3AE0-47E3-BC25-BAA7D9BDC047}"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4"/>
          </p:nvPr>
        </p:nvSpPr>
        <p:spPr/>
        <p:txBody>
          <a:bodyPr/>
          <a:p>
            <a:fld id="{66790DCA-D61E-4B1F-BEEC-4C79F9E28510}"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9E0735E7-922F-472B-A004-897A11B8A368}"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AB576E0C-ED16-4A99-81AB-51DAA28CB6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2818ED5-0A87-4469-BEE1-D176018C9E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5CC2BE22-7776-4AC0-A98D-2FED313D5938}"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373B713-B02C-466F-8FCD-C3E037ADF58E}"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8F8DDE5B-6C7F-42F9-889F-07E26D742925}"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8B0C636A-7762-43AB-B6C5-B5726061D95A}"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6BF3EBBE-1E62-49D4-B031-4225B54B4220}"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AB60E9EE-7C2E-4426-97FA-FBA76D5BCDB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9043ED32-DA1E-40E5-8B93-FCB2B121064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5632EA1A-7CC3-4C63-B1C6-310DC76BA842}"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3015AF94-B2E2-41F4-ABA3-8CB074688B3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5"/>
          </p:nvPr>
        </p:nvSpPr>
        <p:spPr/>
        <p:txBody>
          <a:bodyPr/>
          <a:p>
            <a:fld id="{46CCD77E-289D-41AE-9347-167AA48DE6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25E3DD8-4D6A-440E-BB07-96FB3516FD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A8F5ADA2-C64A-415D-8783-23B61E3A4B1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AFE36AF1-2889-4662-867D-A14886932251}"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AD32664F-1695-4037-BFDE-6024C32AD4C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E0316ECC-4BBE-4269-BDD8-86D463CF886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B5D67F79-02AF-430A-9E47-A0B0BC629963}"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69ADAF19-486A-469D-A368-89BDCC63BAE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131AB5FE-E08D-4830-A137-D0308625C120}"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96A97935-2517-458D-B298-0D72ECE1CAD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1A73A2E8-CF90-45D2-90FB-2EABD80DB3D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DA99079F-BB54-4B37-8D54-50B4C35EF2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9E61DC-DA6E-4F1A-BC79-DE059FF9C8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88B7925D-F17C-4A81-B57A-E4F00E878BC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6"/>
          </p:nvPr>
        </p:nvSpPr>
        <p:spPr/>
        <p:txBody>
          <a:bodyPr/>
          <a:p>
            <a:fld id="{BDAEA14C-56D3-4836-964F-76AA5652AE3D}"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B2ED6E79-FA5D-43E3-8701-61675525337D}"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381DD4F1-9A41-4947-B3F3-13781FA08996}"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DBD6C416-7038-4FEC-832B-C203F222E56B}"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3838D9A5-4A31-40E7-B6FE-5CABA763E543}"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86B6BD00-B219-4AF7-A8F8-6A5E14C3337E}"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76643EEF-AF70-4D7E-99DF-6F61A4C1FBA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1730A742-70AA-4F0C-A18C-EE690A77F67B}"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6D76867B-5576-4032-B4FF-C44DD57A97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8C69E7B-6977-44BD-A743-5D459E77110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42D2EA5E-5040-44D2-9DFB-373808F28B70}"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69E91A5E-3DB2-4700-BAFD-5EEDEEEF575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F8AD8EDF-C731-4160-9C66-919F563269C9}"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7"/>
          </p:nvPr>
        </p:nvSpPr>
        <p:spPr/>
        <p:txBody>
          <a:bodyPr/>
          <a:p>
            <a:fld id="{94C0122A-ED02-4048-A272-3754E8ADB0FF}"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9667E0F6-71B0-4592-BED6-CC5A1DFC5C5B}"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463A19E3-4121-401B-9F33-A43D0F43304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19A83586-9162-4D9C-91DE-B93B28CC3F7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7FD0BA8C-B0FA-4F77-93D1-2D128645DB92}"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05868DFF-8D7C-489F-9B9A-62D64527360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6FA30F42-961A-44BB-96BF-921DDDDE9D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5507BC4-F5EB-47A8-98DB-82470321EBF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ED6836BA-B111-4E4E-BA2C-65F0E469FCD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FC31450-5CC4-4EB8-92FC-29C112D8BAC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2E9A7654-FE42-4E00-8B34-D2B0435F70C7}"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E7810337-A050-486F-86FC-531C8C105955}"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E51B9DE7-D63D-43FD-899E-DEA79B4AA45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8"/>
          </p:nvPr>
        </p:nvSpPr>
        <p:spPr/>
        <p:txBody>
          <a:bodyPr/>
          <a:p>
            <a:fld id="{C7569529-2979-4AC5-A118-CE6BC546013F}"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4A5204AA-2CBD-4220-985A-9ABA92EA66A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EBF3B790-574A-4CB1-9DB0-5DAACAD1CDA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AE40F6CC-0B7B-45FD-9171-2FE2DD6F06D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6742CA15-EE7D-414B-B60A-5F20C487CE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7CBF2DD-F95B-402B-A017-957674D82C76}"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D37D423A-2664-4093-9910-11451DF2666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22685720-9A65-4FBA-93AE-9E3FBC60D45E}"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47E0E8E5-4CD6-4BE1-9CB2-9CE5DE13631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FA818574-A5C4-474C-A800-BDC08981F28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D6D3CE6C-AFF5-4B4A-9B09-0863F4C10D19}"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11EDA4F1-1ED8-446F-A24C-E6046A825243}"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A4C7C6CD-05E8-42BD-8023-50203E6E2FB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9"/>
          </p:nvPr>
        </p:nvSpPr>
        <p:spPr/>
        <p:txBody>
          <a:bodyPr/>
          <a:p>
            <a:fld id="{3A67F79F-C120-4254-9D46-67DF8AF7D29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CF00950D-573E-441D-92FE-47A8F9CC6409}"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001D7932-1FCD-4C2F-AC37-CFA019D57C5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C6AD842-B072-4446-A238-520862844DA3}"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DF72C4FF-DE9E-48FA-9983-2794FB0BA10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F4685539-D4F7-4283-9773-3CF7BF36CA4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5243AC0A-AF5E-4C78-B1F1-C5660AF9C7D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C9CF6CA8-8F5B-437B-AA29-9487F9FF409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66A40694-7913-4694-8F90-BFD795CACC9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59E299D5-19F0-46AC-877B-48EE4B85F64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E3945BDC-CDE4-466F-8806-AA84A4764944}"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A8F03391-5034-48EA-AE82-2BC5F9EC261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443D999A-812C-4925-9659-A0F4484E9DCB}"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0"/>
          </p:nvPr>
        </p:nvSpPr>
        <p:spPr/>
        <p:txBody>
          <a:bodyPr/>
          <a:p>
            <a:fld id="{3CE6C5C0-989B-4433-87CE-FB56A420FE9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98CA52F-3729-4BF2-BFA5-A9F2B4AADFD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3FF7164E-1969-4B19-B084-3647896F3BB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A3654933-6D16-4BF3-97F4-36A234F911F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4D12C9AE-7659-444D-BDD7-9095B97D26D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AFC3AC6D-3FBD-41C3-96EE-5AFE4478B8AA}"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F50E8675-7D0A-4C1E-BB5F-3037CDFD2DFE}"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DB059292-8365-4CDB-AF08-DAD0B13E5085}"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73A7A99F-808D-4D48-8280-405357F4C17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6E1261ED-E184-48C2-B828-6515F4D3FC0C}"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1880C541-9889-493B-8818-315B2F285B23}"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5391D04-E2D4-4F20-835C-E1784AB336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942D5A7-BC83-4EF5-8BB6-DA33B93861C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E6E4ACD-CB37-4913-A739-033F65C9794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756AACF2-74F9-448A-956F-5DFD03F643A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56029B53-BB53-4BB4-86A4-F604E8350F6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2656748E-19FE-4028-A426-EC84D15F37FD}"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8B9CD711-13B2-4F49-AEC4-F4FB19200413}"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74ADCBE-B7E0-492E-A2C1-315C8A909806}"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F661250-471C-4FC9-A598-554845DD3EA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51F249B-FF00-4845-BDBB-C89E2430122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D166B1D8-9ACE-4401-A65B-EB1122BCAA98}"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4070E820-77EA-491D-8B0A-F2780F97A09D}"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6FAF0489-A88D-4D46-BDC1-22C43F010F1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8"/>
          </p:nvPr>
        </p:nvSpPr>
        <p:spPr/>
        <p:txBody>
          <a:bodyPr/>
          <a:p>
            <a:fld id="{ADA2EBE6-F6C3-43E2-966A-4E9AC8B7125D}"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6FAECE91-E674-430D-A24F-D6E97374C64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47123508-9488-45A4-B0F5-329CAA78FCD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EF3D3F21-DB85-48AD-A538-B3169E25B79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152F06AB-B700-49FC-8973-77C5C488A1BD}"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BC5DAC00-B2E9-4226-B4D7-A36C10C3372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9CFE34B1-9C35-4DDF-ACD1-74B38BBDA340}"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55EEDA6C-EB6B-462F-A2FC-B55EE249E974}"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67E15018-7372-4042-A548-853D5C9D9EEA}"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0DCE1EF9-2AA4-4264-B251-091D3B3ACA6C}"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C3C2C157-73CA-4010-90A2-42813F4C432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317411E-8A1B-4CEC-8F44-0116E5A025B4}"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9061706F-269A-46E6-B515-6480264172AD}"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F327CB6D-F683-433E-ACB9-6B222E263B5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109FB750-4C39-4413-BA31-C819EE9DABC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9E68E962-0C73-46FF-9CDF-149847EE1427}"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A828134F-9B60-4C48-B1D5-78BB613BD72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5"/>
          </p:nvPr>
        </p:nvSpPr>
        <p:spPr/>
        <p:txBody>
          <a:bodyPr/>
          <a:p>
            <a:fld id="{B86DAF74-44EA-4197-A8F5-25BE3E8CDD3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86B49F9A-9728-4EA2-B70C-811888CD52D7}"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7CD48438-1234-458F-944B-2ACF23C3DAAB}"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8B0E1246-CCD4-4DEC-9A03-F86CBB04BCE1}"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19195FFD-98AC-4739-B9B0-2622712B13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726C69F-EFC4-487F-9581-57BD50590242}"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BE80D513-BCDB-4CCA-A48C-7C1021DAD3B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2BA2F6F5-4EFD-4BF9-81A9-BF1F190C11B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DA0DFF03-D78D-4DB7-A3D4-891BBD64249F}"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D4606A4-7485-4ABD-83A4-17652141FCC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BB96CDC-BD04-401E-9BDE-8553ABA043A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0894B6-0F8F-43AB-9971-372696B18F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2A820B-FF56-4CDE-A505-F44BE25DB74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37B358E-985A-467F-BC69-990DD5265A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B6ECBF-AC33-4699-80F2-B39913BC6B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00BE75-6FB5-45D4-9986-00F1DF410F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86ECAF0-7D1B-42FA-85BE-BB1FB4E71ED5}"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12098C-7D17-4822-9960-437259A941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691933-5423-4F4D-9029-395B2389578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1795A3E-C5B5-47C9-8BAD-9A1B245A65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B316A5A-020C-4005-95C7-147B35E8365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264A7BD-4406-431C-B3D9-D68816B00E4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35715E8-240D-4528-8085-F648CCB34D6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D5B9EC5-6DDB-4CDD-ADB4-2527DD4398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D0AF001-EB20-42D0-91ED-ED573893C2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D8AD701-48D6-4970-91F7-2C964341A8B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55C13B-D385-4BD7-94C3-B8355A7523B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08D82C6-3B98-4F5B-84D6-F334F543D7F8}"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45EE5A-94D6-4157-8B3F-C1CFC6132BD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189375-97CA-4942-B2E5-A69DC2D5AE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8FC55A-8AD2-4B22-887E-A61F69C9B9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5B04728-A400-4FDC-905D-89E6F4558E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FAD265-A9B6-4262-984D-943DFE8DBC5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2A204F3-CABB-45D3-94C0-20517C7E53E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E36CE5E-1C47-452B-A29F-09C38CC6D1D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9C5A61B-1DAD-4B38-BAE9-96E4B0E5BB5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C5DE72A-7745-4BF7-9E18-1F921222CB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195F657-9B93-432B-99DB-4FA69726FE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8096F2C-ED52-4360-AE83-B2553F29DC9B}"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284CA97-3F07-4AB0-A28A-DEB02D464A6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FFD956D-9AD7-428E-BEA4-DB04A08680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DB5DC0C-8440-40E8-9001-D0FA6E405B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B6134FC-5936-4E91-B42F-676092210E4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F33A7B-1070-494B-ABA9-018F9D8F49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1993C1-7E05-48EC-B877-E993999904E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C9C4FD9-FA8D-4265-89A9-CE32370003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0222A07-FFA1-4A39-89EE-DBE65BBA5AB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549C5D9-F215-4D71-917F-1032519608C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1DCA3D7-6ACA-4C24-931B-3EE2FD6DF06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DAFB45D6-7261-4785-A020-75E161180266}"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1C220F-6F07-40EE-BF0F-6A1C7E326B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BB0DB8-E7B1-4A9B-B5EF-3BFEB4910B0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0CB5EAA-6B4F-4E1A-BE28-0AA1C6037AD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87C2D93-97A6-400A-A262-2A4D029DE43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3CE3565-30AE-4E87-871A-BAB76847ACB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1FAD90-0CED-4057-A493-306FAF5F712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29AF7E7-79DB-4F2D-A70E-29B33534EAE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09380F1-BB50-4219-93C5-C334E3EF56E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99D21A1-1871-4E8E-BD89-D352A6ED47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A80C439-6D82-498E-99F4-AB2295A134E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C444C33-C1BC-42A0-8A94-406E460FC0D6}"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0C0848A-2088-44AF-B720-231E3AD8900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3FEA87B-6ED9-413E-93E7-481A5535BCD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5FF05AA-0281-467C-B95C-847A804B004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1F71313-5047-4CB5-BF85-5B353B6E8FA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A25CF56-7E98-4103-90F5-F6BF9B4EDCA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1596EF4-069A-402F-A49C-97654E3BD73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EE593FB-CCB0-499F-BE6B-471701A5C9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6808736-5501-45C7-840C-2D08DC1998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DAFBE95-9053-40A1-BDA3-BB2FFAB8AD7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183601-0F92-4750-9994-2364705F8C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2BF7AF5-217E-4FE2-AC3E-83E42EC9291B}"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664E7D7-5A22-49E0-BBA7-95C16E231AE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B48E048-DC24-4493-B8C5-DEE5A7DD24B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B76EEE1-FD4D-4F95-B502-C0D99008340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6D3A32E-A977-4781-8ABA-4DE2CCC3370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A3603C1-B56D-44BB-873F-5C433051868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1903908-D1CA-41F7-BDF7-99B6C32A1C9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3EDF5A2-DD55-4607-902A-D713721BEBB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D9095FE-D52D-49F0-A670-7B10478A0B4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BFDC707-8449-43DF-8E41-2417D71501C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26BD1A4-5557-41AF-9311-373B6504EE9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
          </p:nvPr>
        </p:nvSpPr>
        <p:spPr/>
        <p:txBody>
          <a:bodyPr/>
          <a:p>
            <a:fld id="{7FAE7BE1-FC2F-44FB-9A2F-A7DB6D03AD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DE80959-9C99-4D14-BF6A-8CAF2024B475}"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7350393-2CC4-42EB-A69C-CD1236FE89C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2A61CBD-413B-4346-BC1C-CC22C88ED2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EC3C331-EC9E-44F1-B337-F84864BB004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4936054-DE88-4E0A-9C40-BDD31E10F97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311599B-378A-4ED9-84B4-F3FE697B0F7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66FBF4D-AAAD-4141-A53A-B64DD7D79E5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6F8F2AB-E736-4CBC-AC34-2CD4224F737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0AA7625-C600-4F11-8AC7-159EF0C0759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063FE5E-B5A1-442C-BF6B-F32F0AE2EB5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D9CE1FB-0948-4C31-9A37-77EE000A3E8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0531534-D14A-4F69-8493-4A18E1C8C068}"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3266A08-AEDA-4496-AACE-C40CC49E04C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710FA3D-12A6-4E85-B01F-1B415DDB690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E50596-F748-47F9-818A-1D4F287BD22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C5BAB1C-34EF-403C-B621-E5F3F17811C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300AFD-FF19-45C0-84C7-603C1745A99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1712680-B449-426E-812A-2114AF48296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78195F3-6AF5-42B9-82DB-C2D51103E3C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D3694C1-1ABB-45EF-9DD7-5DEB690265A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6BBE3D4-64A1-4AF9-BDE4-8400120C18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857FD37-7697-45BA-8AF4-671EA3D025F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4B5DA4C-4EA9-444E-9F5B-818ED0CE27D8}"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18F6AA4-C722-49EC-8677-10B417289A0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A3EC75A-A979-422F-8A78-1045D8EE324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294BC11-8842-40A2-921C-F6F0F4F77C9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8634A39-62E0-4C99-AFBD-E4CE6E19BF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0D3495B-8F4B-4A36-A014-DC1834057DE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E8DCDAA-89A0-40D8-82E6-04887DEDBE4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3E74675-8814-4288-AC35-F169867DB5D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29C91B5-BD96-49BE-8DDF-0FC33CC6AA2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54A446E-813A-4873-89FB-3A12E85E866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FCBEB14-3E0B-40ED-BBF0-C4415794B04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9"/>
          </p:nvPr>
        </p:nvSpPr>
        <p:spPr/>
        <p:txBody>
          <a:bodyPr/>
          <a:p>
            <a:fld id="{E3D7D6B6-7767-4933-BEF8-290430266DBA}"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11035B7-E75C-4034-8599-DE5585CA6F1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F1E22D9-2ED3-46A6-B993-A9599197C17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DE4365E-7E28-441B-A829-E851AD9D81D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A19A31E-98BE-49E4-960C-CDCF379EC05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E4D502F-C2C0-44E5-97C6-5FF2018291D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5B60D5E-0C62-4B16-BAC7-A14899C70AB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00E9D2D-AC29-46A8-8CFB-60F33AD1FF3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D52EEC7-6944-4230-AF04-EEA03DFA578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0421700-0FA7-44E5-8097-EC39693CA91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36D6B09-A525-4A8D-968E-CB5C6EC8F3E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A757B912-A3CA-458E-B240-725F0EED6B1C}"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2E3C5BB-89FA-4970-A34C-2E87F790734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71E3C59-CD20-4F7F-B75E-513609C5585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EE48555-6FD5-4D76-99DE-EA4BA5A5050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EA759DE-AD06-490B-A95E-53A86581181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21C9469-FF01-46B0-AFF8-7A6E3975CE8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F0B4C14-30C7-4DD4-9856-7D2D7E48B5C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5C1BA42-A68F-4B08-9868-A3D373A1246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9C7BE24-2B5E-4935-A8C7-62AF6BB73F8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915E406-85EE-4ED2-BED9-6BCE6E2E0D4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CFC90EB-247A-4F75-96C5-BB1F68C366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C386892-725E-4B1A-B67B-A95E8204A59E}"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2C49E53-87A6-4641-B6CF-CE7A663627D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72F55F1-809B-4073-8F7A-E281F7ACD68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6370709-0B57-4D43-8681-947AB97B3B9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69D0793-A4CC-47A5-A8B7-73BC0B921E6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B79CEAA-7DFB-44A0-AF07-EB8E91947DD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B02A174-9753-40F4-9A45-7EB2080DFD6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5CD981E-7E02-4384-8826-BE158809613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4F0478A-F0BC-4B3F-BCD1-CA91B69C9EC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4B031F6-2349-4649-A95B-858B90D37EB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A97E68A-C44F-409F-82CF-4E41A8ED5EC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5366569-F926-4FE3-8B01-817B8979FAE3}"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1B85D67-7B99-415C-ADDA-4433CD8FC59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DB94092-DD26-4365-BE96-762A91A793F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808A7F5-BE55-4255-A72B-17D509FD544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88417DF-7976-4FEE-BF6C-77197AB66A9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90AA856-021A-4FC4-9F80-093862D31CD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11CFDE9-21C5-4786-9076-4700BB4139F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E146B19-831E-4BEA-99B5-C274422AF2B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3B32FA61-FD0B-4F2F-99AF-020BD5CE8D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ABDCDD9-A826-46E6-9282-CED9CF13B20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C63592F6-1206-4ECB-9C09-24C07C66BFA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837DC4B-8CF6-4FC5-AD0F-B969F47406D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B2B6AE5-437D-4222-8216-3FF456F06C8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1C6A2B9-A8C4-43D6-B089-4212595388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58C2173-479A-4A47-8774-91747C16DE7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0"/>
          </p:nvPr>
        </p:nvSpPr>
        <p:spPr/>
        <p:txBody>
          <a:bodyPr/>
          <a:p>
            <a:fld id="{F8268A19-5B5E-4533-9E6A-312AF8002CD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A257151-8672-40CD-86A5-F8925A0B8E8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D32FCF8-FFBA-419E-8BF6-30FFAF53499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36B1B39-1D36-4F8D-95D8-EE126342756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45851A2-60CD-41C6-B09E-A7A1625DB9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C12B599-2A9D-4C26-934B-5FE97F5F4E4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B2FC87A-C902-4A0F-ACEA-A0A5EE87C9A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089C5345-D4FB-49D6-A13C-7D7188EBF91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742DF41-6E56-43AF-B9D0-B0BE7B49E46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C672DEF-C7DB-4DF5-8E45-BFB03D1EBC1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CD59473-6835-4DE2-A798-245EA87585C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58C0FD7-3F3E-46F6-9E5B-09E56DA13DC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CCB4676-9F50-46EC-8A65-5096320577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1"/>
          </p:nvPr>
        </p:nvSpPr>
        <p:spPr/>
        <p:txBody>
          <a:bodyPr/>
          <a:p>
            <a:fld id="{6AE2475C-1D81-4CF9-A35A-E1BAC7AC5D5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31EA87C-F0C9-4906-A47A-FA10BE82C6F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DBCDDC8-5623-42D4-B7A8-0660948B48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4FE4B43-EB40-4B10-8464-21606E98ADD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FE6A1BF-DEAF-4E8C-9907-8B232EBDCEF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C820B2F-D07E-4B85-85B5-13FA9EFAE40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A2FB12C-7770-441F-A3EF-AE86DE833F1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CA776DB-26C3-4846-BAF0-C7BFAAA2752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33874D8-2E1E-4AB6-B043-DABB1C0959D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AF41A92-7FF9-4F98-A5B0-E4DCA10962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5DFBAEF7-F03F-493A-9783-E0252DF7D4D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6A4D613C-0801-4998-ACEF-A241F2A2A22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4B7FB22A-D636-4AAE-B8B7-818484B8185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2"/>
          </p:nvPr>
        </p:nvSpPr>
        <p:spPr/>
        <p:txBody>
          <a:bodyPr/>
          <a:p>
            <a:fld id="{404E3FA3-212D-47B4-A987-FF115A2AF5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65E2997-8941-4954-B2FA-B0CFE27C5B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04F08E19-A7F3-48AE-A511-E3A8384D9C3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C5D506B-F708-4125-8534-4E5FE9D0DE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CD399DE-4F94-4301-8238-2F03AC14A9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62E58E0C-9FF5-4488-9D8D-1A87DF238A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AA3C2971-02D9-4A7D-A18C-AE5BEB7D28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B155C51C-4590-42EA-A62D-8B790C56569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9D2E1D79-6129-4ED0-A26E-AAD764B1B6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FFA28E9-613D-4AD0-B706-B1FD57D735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322AC190-94D1-4026-B883-0A2C986C97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1520018E-57DF-4EDE-8902-3107E427F2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sldNum" idx="1"/>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Helvetica Light"/>
              </a:defRPr>
            </a:lvl1pPr>
          </a:lstStyle>
          <a:p>
            <a: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2038044-641D-4179-B603-FBD89C86A34A}" type="slidenum">
              <a:rPr b="1" lang="en-US" sz="1200" spc="-1" strike="noStrike">
                <a:solidFill>
                  <a:srgbClr val="f57e20"/>
                </a:solidFill>
                <a:latin typeface="Helvetica Light"/>
              </a:rPr>
              <a:t>&lt;number&gt;</a:t>
            </a:fld>
            <a:endParaRPr b="0" lang="en-US" sz="1200" spc="-1" strike="noStrike">
              <a:solidFill>
                <a:srgbClr val="000000"/>
              </a:solidFill>
              <a:latin typeface="Times New Roman"/>
            </a:endParaRPr>
          </a:p>
        </p:txBody>
      </p:sp>
      <p:sp>
        <p:nvSpPr>
          <p:cNvPr id="4"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pic>
        <p:nvPicPr>
          <p:cNvPr id="5" name="Picture 10" descr=""/>
          <p:cNvPicPr/>
          <p:nvPr/>
        </p:nvPicPr>
        <p:blipFill>
          <a:blip r:embed="rId2"/>
          <a:stretch/>
        </p:blipFill>
        <p:spPr>
          <a:xfrm>
            <a:off x="95400" y="6167520"/>
            <a:ext cx="120780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8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86" name="Picture 10" descr=""/>
          <p:cNvPicPr/>
          <p:nvPr/>
        </p:nvPicPr>
        <p:blipFill>
          <a:blip r:embed="rId2"/>
          <a:stretch/>
        </p:blipFill>
        <p:spPr>
          <a:xfrm>
            <a:off x="95400" y="6167520"/>
            <a:ext cx="1207800" cy="554040"/>
          </a:xfrm>
          <a:prstGeom prst="rect">
            <a:avLst/>
          </a:prstGeom>
          <a:ln w="0">
            <a:noFill/>
          </a:ln>
        </p:spPr>
      </p:pic>
      <p:pic>
        <p:nvPicPr>
          <p:cNvPr id="387"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38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90" name="PlaceHolder 3"/>
          <p:cNvSpPr>
            <a:spLocks noGrp="1"/>
          </p:cNvSpPr>
          <p:nvPr>
            <p:ph type="sldNum" idx="1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6FC0393-26AB-4936-A4B2-DCEB70326D32}"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2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29" name="Picture 10" descr=""/>
          <p:cNvPicPr/>
          <p:nvPr/>
        </p:nvPicPr>
        <p:blipFill>
          <a:blip r:embed="rId2"/>
          <a:stretch/>
        </p:blipFill>
        <p:spPr>
          <a:xfrm>
            <a:off x="95400" y="6167520"/>
            <a:ext cx="1207800" cy="554040"/>
          </a:xfrm>
          <a:prstGeom prst="rect">
            <a:avLst/>
          </a:prstGeom>
          <a:ln w="0">
            <a:noFill/>
          </a:ln>
        </p:spPr>
      </p:pic>
      <p:pic>
        <p:nvPicPr>
          <p:cNvPr id="430"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43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3" name="PlaceHolder 3"/>
          <p:cNvSpPr>
            <a:spLocks noGrp="1"/>
          </p:cNvSpPr>
          <p:nvPr>
            <p:ph type="sldNum" idx="1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122F094-32C7-4F83-BF8D-1A1B5F4EFC30}"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7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72" name="Picture 10" descr=""/>
          <p:cNvPicPr/>
          <p:nvPr/>
        </p:nvPicPr>
        <p:blipFill>
          <a:blip r:embed="rId2"/>
          <a:stretch/>
        </p:blipFill>
        <p:spPr>
          <a:xfrm>
            <a:off x="95400" y="6167520"/>
            <a:ext cx="1207800" cy="554040"/>
          </a:xfrm>
          <a:prstGeom prst="rect">
            <a:avLst/>
          </a:prstGeom>
          <a:ln w="0">
            <a:noFill/>
          </a:ln>
        </p:spPr>
      </p:pic>
      <p:pic>
        <p:nvPicPr>
          <p:cNvPr id="473"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6" name="PlaceHolder 3"/>
          <p:cNvSpPr>
            <a:spLocks noGrp="1"/>
          </p:cNvSpPr>
          <p:nvPr>
            <p:ph type="sldNum" idx="1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BA25E64-F473-42CB-96DE-37620920ACBF}"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1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5" name="Picture 10" descr=""/>
          <p:cNvPicPr/>
          <p:nvPr/>
        </p:nvPicPr>
        <p:blipFill>
          <a:blip r:embed="rId2"/>
          <a:stretch/>
        </p:blipFill>
        <p:spPr>
          <a:xfrm>
            <a:off x="95400" y="6167520"/>
            <a:ext cx="1207800" cy="554040"/>
          </a:xfrm>
          <a:prstGeom prst="rect">
            <a:avLst/>
          </a:prstGeom>
          <a:ln w="0">
            <a:noFill/>
          </a:ln>
        </p:spPr>
      </p:pic>
      <p:sp>
        <p:nvSpPr>
          <p:cNvPr id="516"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7"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20" name="PlaceHolder 3"/>
          <p:cNvSpPr>
            <a:spLocks noGrp="1"/>
          </p:cNvSpPr>
          <p:nvPr>
            <p:ph type="sldNum" idx="17"/>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E5B921A-D622-4DE6-94F0-4A30C11D9BA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5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59" name="Picture 10" descr=""/>
          <p:cNvPicPr/>
          <p:nvPr/>
        </p:nvPicPr>
        <p:blipFill>
          <a:blip r:embed="rId2"/>
          <a:stretch/>
        </p:blipFill>
        <p:spPr>
          <a:xfrm>
            <a:off x="95400" y="6167520"/>
            <a:ext cx="1207800" cy="554040"/>
          </a:xfrm>
          <a:prstGeom prst="rect">
            <a:avLst/>
          </a:prstGeom>
          <a:ln w="0">
            <a:noFill/>
          </a:ln>
        </p:spPr>
      </p:pic>
      <p:pic>
        <p:nvPicPr>
          <p:cNvPr id="560"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5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63" name="PlaceHolder 3"/>
          <p:cNvSpPr>
            <a:spLocks noGrp="1"/>
          </p:cNvSpPr>
          <p:nvPr>
            <p:ph type="sldNum" idx="1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17082FD-C482-43DC-9A3A-5C6ADC6C4BD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02" name="Picture 10" descr=""/>
          <p:cNvPicPr/>
          <p:nvPr/>
        </p:nvPicPr>
        <p:blipFill>
          <a:blip r:embed="rId2"/>
          <a:stretch/>
        </p:blipFill>
        <p:spPr>
          <a:xfrm>
            <a:off x="95400" y="6167520"/>
            <a:ext cx="1207800" cy="554040"/>
          </a:xfrm>
          <a:prstGeom prst="rect">
            <a:avLst/>
          </a:prstGeom>
          <a:ln w="0">
            <a:noFill/>
          </a:ln>
        </p:spPr>
      </p:pic>
      <p:pic>
        <p:nvPicPr>
          <p:cNvPr id="603"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60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06" name="PlaceHolder 3"/>
          <p:cNvSpPr>
            <a:spLocks noGrp="1"/>
          </p:cNvSpPr>
          <p:nvPr>
            <p:ph type="sldNum" idx="1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483B980-EC6A-46D0-AFDE-C5E20A7B089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4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45" name="Picture 10" descr=""/>
          <p:cNvPicPr/>
          <p:nvPr/>
        </p:nvPicPr>
        <p:blipFill>
          <a:blip r:embed="rId2"/>
          <a:stretch/>
        </p:blipFill>
        <p:spPr>
          <a:xfrm>
            <a:off x="95400" y="6167520"/>
            <a:ext cx="1207800" cy="554040"/>
          </a:xfrm>
          <a:prstGeom prst="rect">
            <a:avLst/>
          </a:prstGeom>
          <a:ln w="0">
            <a:noFill/>
          </a:ln>
        </p:spPr>
      </p:pic>
      <p:pic>
        <p:nvPicPr>
          <p:cNvPr id="646"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64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49" name="PlaceHolder 3"/>
          <p:cNvSpPr>
            <a:spLocks noGrp="1"/>
          </p:cNvSpPr>
          <p:nvPr>
            <p:ph type="sldNum" idx="2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24667DA-80D4-468D-AA27-C1F4E557BDB2}"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8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88" name="Picture 10" descr=""/>
          <p:cNvPicPr/>
          <p:nvPr/>
        </p:nvPicPr>
        <p:blipFill>
          <a:blip r:embed="rId2"/>
          <a:stretch/>
        </p:blipFill>
        <p:spPr>
          <a:xfrm>
            <a:off x="95400" y="6167520"/>
            <a:ext cx="1207800" cy="554040"/>
          </a:xfrm>
          <a:prstGeom prst="rect">
            <a:avLst/>
          </a:prstGeom>
          <a:ln w="0">
            <a:noFill/>
          </a:ln>
        </p:spPr>
      </p:pic>
      <p:pic>
        <p:nvPicPr>
          <p:cNvPr id="689"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690"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92" name="PlaceHolder 3"/>
          <p:cNvSpPr>
            <a:spLocks noGrp="1"/>
          </p:cNvSpPr>
          <p:nvPr>
            <p:ph type="sldNum" idx="2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6B1407F-DCCE-447B-8153-3C231B59D77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3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31" name="Picture 10" descr=""/>
          <p:cNvPicPr/>
          <p:nvPr/>
        </p:nvPicPr>
        <p:blipFill>
          <a:blip r:embed="rId2"/>
          <a:stretch/>
        </p:blipFill>
        <p:spPr>
          <a:xfrm>
            <a:off x="95400" y="6167520"/>
            <a:ext cx="1207800" cy="554040"/>
          </a:xfrm>
          <a:prstGeom prst="rect">
            <a:avLst/>
          </a:prstGeom>
          <a:ln w="0">
            <a:noFill/>
          </a:ln>
        </p:spPr>
      </p:pic>
      <p:pic>
        <p:nvPicPr>
          <p:cNvPr id="732"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73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35" name="PlaceHolder 3"/>
          <p:cNvSpPr>
            <a:spLocks noGrp="1"/>
          </p:cNvSpPr>
          <p:nvPr>
            <p:ph type="sldNum" idx="2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158B323-CD24-4BFD-BB42-28CA075C347D}"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7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74" name="Picture 10" descr=""/>
          <p:cNvPicPr/>
          <p:nvPr/>
        </p:nvPicPr>
        <p:blipFill>
          <a:blip r:embed="rId2"/>
          <a:stretch/>
        </p:blipFill>
        <p:spPr>
          <a:xfrm>
            <a:off x="95400" y="6167520"/>
            <a:ext cx="1207800" cy="554040"/>
          </a:xfrm>
          <a:prstGeom prst="rect">
            <a:avLst/>
          </a:prstGeom>
          <a:ln w="0">
            <a:noFill/>
          </a:ln>
        </p:spPr>
      </p:pic>
      <p:pic>
        <p:nvPicPr>
          <p:cNvPr id="775"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77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78" name="PlaceHolder 3"/>
          <p:cNvSpPr>
            <a:spLocks noGrp="1"/>
          </p:cNvSpPr>
          <p:nvPr>
            <p:ph type="sldNum" idx="2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79C9A41-FA08-48B3-9869-32BC55A1EF12}"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Arial"/>
              </a:rPr>
              <a:t>&lt;date/time&gt;</a:t>
            </a:r>
            <a:endParaRPr b="0" lang="en-US" sz="1200" spc="-1" strike="noStrike">
              <a:solidFill>
                <a:srgbClr val="000000"/>
              </a:solidFill>
              <a:latin typeface="Times New Roman"/>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46" name="PlaceHolder 5"/>
          <p:cNvSpPr>
            <a:spLocks noGrp="1"/>
          </p:cNvSpPr>
          <p:nvPr>
            <p:ph type="sldNum" idx="4"/>
          </p:nvPr>
        </p:nvSpPr>
        <p:spPr>
          <a:xfrm>
            <a:off x="-11520" y="649296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211BE4C-77AC-4E17-9A11-4B0BEC66E422}"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1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17" name="Picture 10" descr=""/>
          <p:cNvPicPr/>
          <p:nvPr/>
        </p:nvPicPr>
        <p:blipFill>
          <a:blip r:embed="rId2"/>
          <a:stretch/>
        </p:blipFill>
        <p:spPr>
          <a:xfrm>
            <a:off x="95400" y="6167520"/>
            <a:ext cx="1207800" cy="554040"/>
          </a:xfrm>
          <a:prstGeom prst="rect">
            <a:avLst/>
          </a:prstGeom>
          <a:ln w="0">
            <a:noFill/>
          </a:ln>
        </p:spPr>
      </p:pic>
      <p:pic>
        <p:nvPicPr>
          <p:cNvPr id="818"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81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21" name="PlaceHolder 3"/>
          <p:cNvSpPr>
            <a:spLocks noGrp="1"/>
          </p:cNvSpPr>
          <p:nvPr>
            <p:ph type="sldNum" idx="2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90B4B9BF-3C5B-4D2F-9C81-9FBB47D2450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5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60" name="Picture 10" descr=""/>
          <p:cNvPicPr/>
          <p:nvPr/>
        </p:nvPicPr>
        <p:blipFill>
          <a:blip r:embed="rId2"/>
          <a:stretch/>
        </p:blipFill>
        <p:spPr>
          <a:xfrm>
            <a:off x="95400" y="6167520"/>
            <a:ext cx="1207800" cy="554040"/>
          </a:xfrm>
          <a:prstGeom prst="rect">
            <a:avLst/>
          </a:prstGeom>
          <a:ln w="0">
            <a:noFill/>
          </a:ln>
        </p:spPr>
      </p:pic>
      <p:sp>
        <p:nvSpPr>
          <p:cNvPr id="8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63" name="PlaceHolder 3"/>
          <p:cNvSpPr>
            <a:spLocks noGrp="1"/>
          </p:cNvSpPr>
          <p:nvPr>
            <p:ph type="sldNum" idx="2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5E8C2BA-07C7-4DE3-B3E6-914443CE332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02" name="Picture 10" descr=""/>
          <p:cNvPicPr/>
          <p:nvPr/>
        </p:nvPicPr>
        <p:blipFill>
          <a:blip r:embed="rId2"/>
          <a:stretch/>
        </p:blipFill>
        <p:spPr>
          <a:xfrm>
            <a:off x="95400" y="6167520"/>
            <a:ext cx="1207800" cy="554040"/>
          </a:xfrm>
          <a:prstGeom prst="rect">
            <a:avLst/>
          </a:prstGeom>
          <a:ln w="0">
            <a:noFill/>
          </a:ln>
        </p:spPr>
      </p:pic>
      <p:sp>
        <p:nvSpPr>
          <p:cNvPr id="90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05" name="PlaceHolder 3"/>
          <p:cNvSpPr>
            <a:spLocks noGrp="1"/>
          </p:cNvSpPr>
          <p:nvPr>
            <p:ph type="sldNum" idx="2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5A6E1EFF-B747-4A61-ABDE-77CA05013310}"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4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44" name="Picture 10" descr=""/>
          <p:cNvPicPr/>
          <p:nvPr/>
        </p:nvPicPr>
        <p:blipFill>
          <a:blip r:embed="rId2"/>
          <a:stretch/>
        </p:blipFill>
        <p:spPr>
          <a:xfrm>
            <a:off x="95400" y="6167520"/>
            <a:ext cx="1207800" cy="554040"/>
          </a:xfrm>
          <a:prstGeom prst="rect">
            <a:avLst/>
          </a:prstGeom>
          <a:ln w="0">
            <a:noFill/>
          </a:ln>
        </p:spPr>
      </p:pic>
      <p:grpSp>
        <p:nvGrpSpPr>
          <p:cNvPr id="945" name="Group 5"/>
          <p:cNvGrpSpPr/>
          <p:nvPr/>
        </p:nvGrpSpPr>
        <p:grpSpPr>
          <a:xfrm>
            <a:off x="0" y="0"/>
            <a:ext cx="9144000" cy="1289160"/>
            <a:chOff x="0" y="0"/>
            <a:chExt cx="9144000" cy="1289160"/>
          </a:xfrm>
        </p:grpSpPr>
        <p:pic>
          <p:nvPicPr>
            <p:cNvPr id="946" name="Picture 9" descr="_0010_11.jpg"/>
            <p:cNvPicPr/>
            <p:nvPr/>
          </p:nvPicPr>
          <p:blipFill>
            <a:blip r:embed="rId3"/>
            <a:srcRect l="0" t="0" r="0" b="4271"/>
            <a:stretch/>
          </p:blipFill>
          <p:spPr>
            <a:xfrm>
              <a:off x="0" y="2880"/>
              <a:ext cx="9144000" cy="1283040"/>
            </a:xfrm>
            <a:prstGeom prst="rect">
              <a:avLst/>
            </a:prstGeom>
            <a:ln w="0">
              <a:noFill/>
            </a:ln>
          </p:spPr>
        </p:pic>
        <p:sp>
          <p:nvSpPr>
            <p:cNvPr id="947"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8"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4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51" name="PlaceHolder 3"/>
          <p:cNvSpPr>
            <a:spLocks noGrp="1"/>
          </p:cNvSpPr>
          <p:nvPr>
            <p:ph type="sldNum" idx="27"/>
          </p:nvPr>
        </p:nvSpPr>
        <p:spPr>
          <a:xfrm>
            <a:off x="6933960" y="6324480"/>
            <a:ext cx="1523880" cy="53352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a6a6a6"/>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34C98C3-1128-431D-8988-6ECBBFBBB5A5}" type="slidenum">
              <a:rPr b="1"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952" name="PlaceHolder 4"/>
          <p:cNvSpPr>
            <a:spLocks noGrp="1"/>
          </p:cNvSpPr>
          <p:nvPr>
            <p:ph type="ftr" idx="28"/>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9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91" name="Picture 10" descr=""/>
          <p:cNvPicPr/>
          <p:nvPr/>
        </p:nvPicPr>
        <p:blipFill>
          <a:blip r:embed="rId2"/>
          <a:stretch/>
        </p:blipFill>
        <p:spPr>
          <a:xfrm>
            <a:off x="95400" y="6167520"/>
            <a:ext cx="1207800" cy="554040"/>
          </a:xfrm>
          <a:prstGeom prst="rect">
            <a:avLst/>
          </a:prstGeom>
          <a:ln w="0">
            <a:noFill/>
          </a:ln>
        </p:spPr>
      </p:pic>
      <p:sp>
        <p:nvSpPr>
          <p:cNvPr id="99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94" name="PlaceHolder 3"/>
          <p:cNvSpPr>
            <a:spLocks noGrp="1"/>
          </p:cNvSpPr>
          <p:nvPr>
            <p:ph type="sldNum" idx="2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fffff"/>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1C07B9F-EF19-4002-847D-7FBB2B93EDB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95" name="PlaceHolder 4"/>
          <p:cNvSpPr>
            <a:spLocks noGrp="1"/>
          </p:cNvSpPr>
          <p:nvPr>
            <p:ph type="ftr" idx="30"/>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3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34" name="Picture 10" descr=""/>
          <p:cNvPicPr/>
          <p:nvPr/>
        </p:nvPicPr>
        <p:blipFill>
          <a:blip r:embed="rId2"/>
          <a:stretch/>
        </p:blipFill>
        <p:spPr>
          <a:xfrm>
            <a:off x="95400" y="6167520"/>
            <a:ext cx="1207800" cy="554040"/>
          </a:xfrm>
          <a:prstGeom prst="rect">
            <a:avLst/>
          </a:prstGeom>
          <a:ln w="0">
            <a:noFill/>
          </a:ln>
        </p:spPr>
      </p:pic>
      <p:sp>
        <p:nvSpPr>
          <p:cNvPr id="103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7" name="PlaceHolder 3"/>
          <p:cNvSpPr>
            <a:spLocks noGrp="1"/>
          </p:cNvSpPr>
          <p:nvPr>
            <p:ph type="ftr" idx="31"/>
          </p:nvPr>
        </p:nvSpPr>
        <p:spPr>
          <a:xfrm>
            <a:off x="3124080" y="6244920"/>
            <a:ext cx="2895840" cy="47628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038" name="PlaceHolder 4"/>
          <p:cNvSpPr>
            <a:spLocks noGrp="1"/>
          </p:cNvSpPr>
          <p:nvPr>
            <p:ph type="sldNum" idx="3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5331BE5-9AFE-45C6-B94C-73CA718B999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7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77" name="Picture 10" descr=""/>
          <p:cNvPicPr/>
          <p:nvPr/>
        </p:nvPicPr>
        <p:blipFill>
          <a:blip r:embed="rId2"/>
          <a:stretch/>
        </p:blipFill>
        <p:spPr>
          <a:xfrm>
            <a:off x="95400" y="6167520"/>
            <a:ext cx="1207800" cy="554040"/>
          </a:xfrm>
          <a:prstGeom prst="rect">
            <a:avLst/>
          </a:prstGeom>
          <a:ln w="0">
            <a:noFill/>
          </a:ln>
        </p:spPr>
      </p:pic>
      <p:pic>
        <p:nvPicPr>
          <p:cNvPr id="1078"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07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81" name="PlaceHolder 3"/>
          <p:cNvSpPr>
            <a:spLocks noGrp="1"/>
          </p:cNvSpPr>
          <p:nvPr>
            <p:ph type="sldNum" idx="3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5FDB5160-EE5C-4E0A-8F24-CF404341B30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1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20" name="Picture 10" descr=""/>
          <p:cNvPicPr/>
          <p:nvPr/>
        </p:nvPicPr>
        <p:blipFill>
          <a:blip r:embed="rId2"/>
          <a:stretch/>
        </p:blipFill>
        <p:spPr>
          <a:xfrm>
            <a:off x="95400" y="6167520"/>
            <a:ext cx="1207800" cy="554040"/>
          </a:xfrm>
          <a:prstGeom prst="rect">
            <a:avLst/>
          </a:prstGeom>
          <a:ln w="0">
            <a:noFill/>
          </a:ln>
        </p:spPr>
      </p:pic>
      <p:pic>
        <p:nvPicPr>
          <p:cNvPr id="1121"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2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24" name="PlaceHolder 3"/>
          <p:cNvSpPr>
            <a:spLocks noGrp="1"/>
          </p:cNvSpPr>
          <p:nvPr>
            <p:ph type="sldNum" idx="3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0AD710F-5F62-4E50-9DBF-0F5C7FA31958}"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6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63" name="Picture 10" descr=""/>
          <p:cNvPicPr/>
          <p:nvPr/>
        </p:nvPicPr>
        <p:blipFill>
          <a:blip r:embed="rId2"/>
          <a:stretch/>
        </p:blipFill>
        <p:spPr>
          <a:xfrm>
            <a:off x="95400" y="6167520"/>
            <a:ext cx="1207800" cy="554040"/>
          </a:xfrm>
          <a:prstGeom prst="rect">
            <a:avLst/>
          </a:prstGeom>
          <a:ln w="0">
            <a:noFill/>
          </a:ln>
        </p:spPr>
      </p:pic>
      <p:pic>
        <p:nvPicPr>
          <p:cNvPr id="116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6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67" name="PlaceHolder 3"/>
          <p:cNvSpPr>
            <a:spLocks noGrp="1"/>
          </p:cNvSpPr>
          <p:nvPr>
            <p:ph type="sldNum" idx="3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50552D32-DE18-4A9C-B8D0-225FF1A64AE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0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6" name="Picture 10" descr=""/>
          <p:cNvPicPr/>
          <p:nvPr/>
        </p:nvPicPr>
        <p:blipFill>
          <a:blip r:embed="rId2"/>
          <a:stretch/>
        </p:blipFill>
        <p:spPr>
          <a:xfrm>
            <a:off x="95400" y="6167520"/>
            <a:ext cx="1207800" cy="554040"/>
          </a:xfrm>
          <a:prstGeom prst="rect">
            <a:avLst/>
          </a:prstGeom>
          <a:ln w="0">
            <a:noFill/>
          </a:ln>
        </p:spPr>
      </p:pic>
      <p:sp>
        <p:nvSpPr>
          <p:cNvPr id="1207"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8"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20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11" name="PlaceHolder 3"/>
          <p:cNvSpPr>
            <a:spLocks noGrp="1"/>
          </p:cNvSpPr>
          <p:nvPr>
            <p:ph type="sldNum" idx="3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4452167-1A2B-4368-B00F-645D0E59014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4A2E-C83F-491F-8CE8-C1FDE5A087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 name="Picture 2" descr=""/>
          <p:cNvPicPr/>
          <p:nvPr/>
        </p:nvPicPr>
        <p:blipFill>
          <a:blip r:embed="rId2"/>
          <a:stretch/>
        </p:blipFill>
        <p:spPr>
          <a:xfrm>
            <a:off x="7238880" y="457200"/>
            <a:ext cx="152424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4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50" name="Picture 10" descr=""/>
          <p:cNvPicPr/>
          <p:nvPr/>
        </p:nvPicPr>
        <p:blipFill>
          <a:blip r:embed="rId2"/>
          <a:stretch/>
        </p:blipFill>
        <p:spPr>
          <a:xfrm>
            <a:off x="95400" y="6167520"/>
            <a:ext cx="1207800" cy="554040"/>
          </a:xfrm>
          <a:prstGeom prst="rect">
            <a:avLst/>
          </a:prstGeom>
          <a:ln w="0">
            <a:noFill/>
          </a:ln>
        </p:spPr>
      </p:pic>
      <p:sp>
        <p:nvSpPr>
          <p:cNvPr id="125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53" name="PlaceHolder 3"/>
          <p:cNvSpPr>
            <a:spLocks noGrp="1"/>
          </p:cNvSpPr>
          <p:nvPr>
            <p:ph type="sldNum" idx="37"/>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935FE05F-E919-4140-92B1-7C6FD1DE75BE}"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9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92" name="Picture 10" descr=""/>
          <p:cNvPicPr/>
          <p:nvPr/>
        </p:nvPicPr>
        <p:blipFill>
          <a:blip r:embed="rId2"/>
          <a:stretch/>
        </p:blipFill>
        <p:spPr>
          <a:xfrm>
            <a:off x="95400" y="6167520"/>
            <a:ext cx="1207800" cy="554040"/>
          </a:xfrm>
          <a:prstGeom prst="rect">
            <a:avLst/>
          </a:prstGeom>
          <a:ln w="0">
            <a:noFill/>
          </a:ln>
        </p:spPr>
      </p:pic>
      <p:sp>
        <p:nvSpPr>
          <p:cNvPr id="1293" name="TextBox 9"/>
          <p:cNvSpPr/>
          <p:nvPr/>
        </p:nvSpPr>
        <p:spPr>
          <a:xfrm>
            <a:off x="990720" y="458640"/>
            <a:ext cx="7162560" cy="644760"/>
          </a:xfrm>
          <a:prstGeom prst="rect">
            <a:avLst/>
          </a:prstGeom>
          <a:noFill/>
          <a:ln w="0">
            <a:noFill/>
          </a:ln>
        </p:spPr>
        <p:style>
          <a:lnRef idx="0"/>
          <a:fillRef idx="0"/>
          <a:effectRef idx="0"/>
          <a:fontRef idx="minor"/>
        </p:style>
        <p:txBody>
          <a:bodyPr lIns="90720" rIns="90720" tIns="45360" bIns="45360" anchor="ctr">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Calibri"/>
            </a:endParaRPr>
          </a:p>
        </p:txBody>
      </p:sp>
      <p:pic>
        <p:nvPicPr>
          <p:cNvPr id="1294" name="Picture 2" descr="J:\Communications &amp; Outreach\Stock Photos\NGSS\HSBoyBunsenPPT.jpg"/>
          <p:cNvPicPr/>
          <p:nvPr/>
        </p:nvPicPr>
        <p:blipFill>
          <a:blip r:embed="rId3"/>
          <a:stretch/>
        </p:blipFill>
        <p:spPr>
          <a:xfrm>
            <a:off x="7238880" y="228600"/>
            <a:ext cx="1752840" cy="1168560"/>
          </a:xfrm>
          <a:prstGeom prst="rect">
            <a:avLst/>
          </a:prstGeom>
          <a:ln w="9360">
            <a:solidFill>
              <a:srgbClr val="303a96"/>
            </a:solidFill>
            <a:miter/>
          </a:ln>
        </p:spPr>
      </p:pic>
      <p:sp>
        <p:nvSpPr>
          <p:cNvPr id="129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7" name="PlaceHolder 3"/>
          <p:cNvSpPr>
            <a:spLocks noGrp="1"/>
          </p:cNvSpPr>
          <p:nvPr>
            <p:ph type="sldNum" idx="38"/>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BBFCDB06-A551-466C-BED7-BAB216250088}"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3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36" name="Picture 10" descr=""/>
          <p:cNvPicPr/>
          <p:nvPr/>
        </p:nvPicPr>
        <p:blipFill>
          <a:blip r:embed="rId2"/>
          <a:stretch/>
        </p:blipFill>
        <p:spPr>
          <a:xfrm>
            <a:off x="95400" y="6167520"/>
            <a:ext cx="1207800" cy="554040"/>
          </a:xfrm>
          <a:prstGeom prst="rect">
            <a:avLst/>
          </a:prstGeom>
          <a:ln w="0">
            <a:noFill/>
          </a:ln>
        </p:spPr>
      </p:pic>
      <p:pic>
        <p:nvPicPr>
          <p:cNvPr id="1337" name="Picture 2" descr="J:\Communications &amp; Outreach\Stock Photos\NGSS\Girl-TeacherOutside.jpg"/>
          <p:cNvPicPr/>
          <p:nvPr/>
        </p:nvPicPr>
        <p:blipFill>
          <a:blip r:embed="rId3"/>
          <a:stretch/>
        </p:blipFill>
        <p:spPr>
          <a:xfrm>
            <a:off x="7238880" y="228600"/>
            <a:ext cx="1784520" cy="1190520"/>
          </a:xfrm>
          <a:prstGeom prst="rect">
            <a:avLst/>
          </a:prstGeom>
          <a:ln w="9360">
            <a:solidFill>
              <a:srgbClr val="303a96"/>
            </a:solidFill>
            <a:miter/>
          </a:ln>
        </p:spPr>
      </p:pic>
      <p:sp>
        <p:nvSpPr>
          <p:cNvPr id="133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40" name="PlaceHolder 3"/>
          <p:cNvSpPr>
            <a:spLocks noGrp="1"/>
          </p:cNvSpPr>
          <p:nvPr>
            <p:ph type="sldNum" idx="39"/>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CFCB5A72-BC14-4BFE-BCDB-5BDC2B3C1B0E}"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7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79" name="Picture 10" descr=""/>
          <p:cNvPicPr/>
          <p:nvPr/>
        </p:nvPicPr>
        <p:blipFill>
          <a:blip r:embed="rId2"/>
          <a:stretch/>
        </p:blipFill>
        <p:spPr>
          <a:xfrm>
            <a:off x="95400" y="6167520"/>
            <a:ext cx="1207800" cy="554040"/>
          </a:xfrm>
          <a:prstGeom prst="rect">
            <a:avLst/>
          </a:prstGeom>
          <a:ln w="0">
            <a:noFill/>
          </a:ln>
        </p:spPr>
      </p:pic>
      <p:pic>
        <p:nvPicPr>
          <p:cNvPr id="1380" name="Picture 2" descr="J:\Communications &amp; Outreach\Stock Photos\NGSS\86491665.jpg"/>
          <p:cNvPicPr/>
          <p:nvPr/>
        </p:nvPicPr>
        <p:blipFill>
          <a:blip r:embed="rId3"/>
          <a:stretch/>
        </p:blipFill>
        <p:spPr>
          <a:xfrm>
            <a:off x="7238880" y="228600"/>
            <a:ext cx="1752840" cy="1168560"/>
          </a:xfrm>
          <a:prstGeom prst="rect">
            <a:avLst/>
          </a:prstGeom>
          <a:ln w="9360">
            <a:solidFill>
              <a:srgbClr val="303a96"/>
            </a:solidFill>
            <a:miter/>
          </a:ln>
        </p:spPr>
      </p:pic>
      <p:sp>
        <p:nvSpPr>
          <p:cNvPr id="138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83" name="PlaceHolder 3"/>
          <p:cNvSpPr>
            <a:spLocks noGrp="1"/>
          </p:cNvSpPr>
          <p:nvPr>
            <p:ph type="sldNum" idx="40"/>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797B9C77-7AD8-4DCA-858E-A0CCA41DDE9B}"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2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22" name="Picture 10" descr=""/>
          <p:cNvPicPr/>
          <p:nvPr/>
        </p:nvPicPr>
        <p:blipFill>
          <a:blip r:embed="rId2"/>
          <a:stretch/>
        </p:blipFill>
        <p:spPr>
          <a:xfrm>
            <a:off x="95400" y="6167520"/>
            <a:ext cx="1207800" cy="554040"/>
          </a:xfrm>
          <a:prstGeom prst="rect">
            <a:avLst/>
          </a:prstGeom>
          <a:ln w="0">
            <a:noFill/>
          </a:ln>
        </p:spPr>
      </p:pic>
      <p:grpSp>
        <p:nvGrpSpPr>
          <p:cNvPr id="1423" name="Group 5"/>
          <p:cNvGrpSpPr/>
          <p:nvPr/>
        </p:nvGrpSpPr>
        <p:grpSpPr>
          <a:xfrm>
            <a:off x="0" y="0"/>
            <a:ext cx="9144000" cy="1289160"/>
            <a:chOff x="0" y="0"/>
            <a:chExt cx="9144000" cy="1289160"/>
          </a:xfrm>
        </p:grpSpPr>
        <p:pic>
          <p:nvPicPr>
            <p:cNvPr id="1424" name="Picture 11" descr="_0010_11.jpg"/>
            <p:cNvPicPr/>
            <p:nvPr/>
          </p:nvPicPr>
          <p:blipFill>
            <a:blip r:embed="rId3"/>
            <a:srcRect l="0" t="0" r="0" b="4271"/>
            <a:stretch/>
          </p:blipFill>
          <p:spPr>
            <a:xfrm>
              <a:off x="0" y="2880"/>
              <a:ext cx="9144000" cy="1283040"/>
            </a:xfrm>
            <a:prstGeom prst="rect">
              <a:avLst/>
            </a:prstGeom>
            <a:ln w="0">
              <a:noFill/>
            </a:ln>
          </p:spPr>
        </p:pic>
        <p:sp>
          <p:nvSpPr>
            <p:cNvPr id="1425"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6"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2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29" name="PlaceHolder 3"/>
          <p:cNvSpPr>
            <a:spLocks noGrp="1"/>
          </p:cNvSpPr>
          <p:nvPr>
            <p:ph type="sldNum" idx="41"/>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a6a6a6"/>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6E9BF079-3BDA-4013-9D22-3C34779FB126}" type="slidenum">
              <a:rPr b="1" lang="en-US" sz="1200" spc="-1" strike="noStrike">
                <a:solidFill>
                  <a:srgbClr val="a6a6a6"/>
                </a:solidFill>
                <a:latin typeface="Helvetica Light"/>
                <a:ea typeface="Helvetica Light"/>
              </a:rPr>
              <a:t>&lt;number&gt;</a:t>
            </a:fld>
            <a:endParaRPr b="0" lang="en-US" sz="1200" spc="-1" strike="noStrike">
              <a:solidFill>
                <a:srgbClr val="000000"/>
              </a:solidFill>
              <a:latin typeface="Times New Roman"/>
            </a:endParaRPr>
          </a:p>
        </p:txBody>
      </p:sp>
      <p:sp>
        <p:nvSpPr>
          <p:cNvPr id="1430" name="PlaceHolder 4"/>
          <p:cNvSpPr>
            <a:spLocks noGrp="1"/>
          </p:cNvSpPr>
          <p:nvPr>
            <p:ph type="ftr" idx="42"/>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6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69" name="Picture 10" descr=""/>
          <p:cNvPicPr/>
          <p:nvPr/>
        </p:nvPicPr>
        <p:blipFill>
          <a:blip r:embed="rId2"/>
          <a:stretch/>
        </p:blipFill>
        <p:spPr>
          <a:xfrm>
            <a:off x="95400" y="6167520"/>
            <a:ext cx="1207800" cy="554040"/>
          </a:xfrm>
          <a:prstGeom prst="rect">
            <a:avLst/>
          </a:prstGeom>
          <a:ln w="0">
            <a:noFill/>
          </a:ln>
        </p:spPr>
      </p:pic>
      <p:grpSp>
        <p:nvGrpSpPr>
          <p:cNvPr id="1470" name="Group 15"/>
          <p:cNvGrpSpPr/>
          <p:nvPr/>
        </p:nvGrpSpPr>
        <p:grpSpPr>
          <a:xfrm>
            <a:off x="0" y="-3240"/>
            <a:ext cx="9144000" cy="1289160"/>
            <a:chOff x="0" y="-3240"/>
            <a:chExt cx="9144000" cy="1289160"/>
          </a:xfrm>
        </p:grpSpPr>
        <p:pic>
          <p:nvPicPr>
            <p:cNvPr id="1471" name="Picture 11" descr="_0013_14.jpg"/>
            <p:cNvPicPr/>
            <p:nvPr/>
          </p:nvPicPr>
          <p:blipFill>
            <a:blip r:embed="rId3"/>
            <a:srcRect l="0" t="0" r="0" b="4264"/>
            <a:stretch/>
          </p:blipFill>
          <p:spPr>
            <a:xfrm>
              <a:off x="0" y="0"/>
              <a:ext cx="9144000" cy="1283040"/>
            </a:xfrm>
            <a:prstGeom prst="rect">
              <a:avLst/>
            </a:prstGeom>
            <a:ln w="0">
              <a:noFill/>
            </a:ln>
          </p:spPr>
        </p:pic>
        <p:sp>
          <p:nvSpPr>
            <p:cNvPr id="1472" name="Freeform 21"/>
            <p:cNvSpPr/>
            <p:nvPr/>
          </p:nvSpPr>
          <p:spPr>
            <a:xfrm>
              <a:off x="1376280" y="-324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3" name="Freeform 21"/>
            <p:cNvSpPr/>
            <p:nvPr/>
          </p:nvSpPr>
          <p:spPr>
            <a:xfrm>
              <a:off x="0" y="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76" name="PlaceHolder 3"/>
          <p:cNvSpPr>
            <a:spLocks noGrp="1"/>
          </p:cNvSpPr>
          <p:nvPr>
            <p:ph type="sldNum" idx="43"/>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9f9f9f"/>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6BAC9E5F-94F9-4FAE-B867-8449B180FC29}" type="slidenum">
              <a:rPr b="1" lang="en-US" sz="1200" spc="-1" strike="noStrike">
                <a:solidFill>
                  <a:srgbClr val="9f9f9f"/>
                </a:solidFill>
                <a:latin typeface="Helvetica Light"/>
                <a:ea typeface="Helvetica Light"/>
              </a:rPr>
              <a:t>&lt;number&gt;</a:t>
            </a:fld>
            <a:endParaRPr b="0" lang="en-US" sz="1200" spc="-1" strike="noStrike">
              <a:solidFill>
                <a:srgbClr val="000000"/>
              </a:solidFill>
              <a:latin typeface="Times New Roman"/>
            </a:endParaRPr>
          </a:p>
        </p:txBody>
      </p:sp>
      <p:sp>
        <p:nvSpPr>
          <p:cNvPr id="1477" name="PlaceHolder 4"/>
          <p:cNvSpPr>
            <a:spLocks noGrp="1"/>
          </p:cNvSpPr>
          <p:nvPr>
            <p:ph type="ftr" idx="44"/>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51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516" name="Picture 10" descr=""/>
          <p:cNvPicPr/>
          <p:nvPr/>
        </p:nvPicPr>
        <p:blipFill>
          <a:blip r:embed="rId2"/>
          <a:stretch/>
        </p:blipFill>
        <p:spPr>
          <a:xfrm>
            <a:off x="95400" y="6167520"/>
            <a:ext cx="1207800" cy="554040"/>
          </a:xfrm>
          <a:prstGeom prst="rect">
            <a:avLst/>
          </a:prstGeom>
          <a:ln w="0">
            <a:noFill/>
          </a:ln>
        </p:spPr>
      </p:pic>
      <p:pic>
        <p:nvPicPr>
          <p:cNvPr id="1517"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520" name="PlaceHolder 3"/>
          <p:cNvSpPr>
            <a:spLocks noGrp="1"/>
          </p:cNvSpPr>
          <p:nvPr>
            <p:ph type="sldNum" idx="4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5BB1219-7F73-4042-9B6E-CAEEC516FB03}"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58" name="Picture 2" descr=""/>
          <p:cNvPicPr/>
          <p:nvPr/>
        </p:nvPicPr>
        <p:blipFill>
          <a:blip r:embed="rId2"/>
          <a:stretch/>
        </p:blipFill>
        <p:spPr>
          <a:xfrm>
            <a:off x="7238880" y="457200"/>
            <a:ext cx="1524240" cy="401760"/>
          </a:xfrm>
          <a:prstGeom prst="rect">
            <a:avLst/>
          </a:prstGeom>
          <a:ln w="0">
            <a:noFill/>
          </a:ln>
        </p:spPr>
      </p:pic>
      <p:sp>
        <p:nvSpPr>
          <p:cNvPr id="15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6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56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ADE2190-BDBA-4023-A138-7CB3B9B3F4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1" name="Picture 2" descr=""/>
          <p:cNvPicPr/>
          <p:nvPr/>
        </p:nvPicPr>
        <p:blipFill>
          <a:blip r:embed="rId2"/>
          <a:stretch/>
        </p:blipFill>
        <p:spPr>
          <a:xfrm>
            <a:off x="7238880" y="457200"/>
            <a:ext cx="1524240" cy="401760"/>
          </a:xfrm>
          <a:prstGeom prst="rect">
            <a:avLst/>
          </a:prstGeom>
          <a:ln w="0">
            <a:noFill/>
          </a:ln>
        </p:spPr>
      </p:pic>
      <p:sp>
        <p:nvSpPr>
          <p:cNvPr id="16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4"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05"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06"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B2C2326-DFEF-4631-BDCF-7E5D988D83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44" name="Picture 2" descr=""/>
          <p:cNvPicPr/>
          <p:nvPr/>
        </p:nvPicPr>
        <p:blipFill>
          <a:blip r:embed="rId2"/>
          <a:stretch/>
        </p:blipFill>
        <p:spPr>
          <a:xfrm>
            <a:off x="7238880" y="457200"/>
            <a:ext cx="1524240" cy="401760"/>
          </a:xfrm>
          <a:prstGeom prst="rect">
            <a:avLst/>
          </a:prstGeom>
          <a:ln w="0">
            <a:noFill/>
          </a:ln>
        </p:spPr>
      </p:pic>
      <p:sp>
        <p:nvSpPr>
          <p:cNvPr id="16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4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4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87E04AA-F10C-45E8-8FF9-497E9CAA35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8" name="Picture 10" descr=""/>
          <p:cNvPicPr/>
          <p:nvPr/>
        </p:nvPicPr>
        <p:blipFill>
          <a:blip r:embed="rId2"/>
          <a:stretch/>
        </p:blipFill>
        <p:spPr>
          <a:xfrm>
            <a:off x="95400" y="6167520"/>
            <a:ext cx="1207800" cy="554040"/>
          </a:xfrm>
          <a:prstGeom prst="rect">
            <a:avLst/>
          </a:prstGeom>
          <a:ln w="0">
            <a:noFill/>
          </a:ln>
        </p:spPr>
      </p:pic>
      <p:sp>
        <p:nvSpPr>
          <p:cNvPr id="12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1" name="PlaceHolder 3"/>
          <p:cNvSpPr>
            <a:spLocks noGrp="1"/>
          </p:cNvSpPr>
          <p:nvPr>
            <p:ph type="sldNum" idx="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6260578-5208-439F-8010-418DD22125B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87" name="Picture 2" descr=""/>
          <p:cNvPicPr/>
          <p:nvPr/>
        </p:nvPicPr>
        <p:blipFill>
          <a:blip r:embed="rId2"/>
          <a:stretch/>
        </p:blipFill>
        <p:spPr>
          <a:xfrm>
            <a:off x="7238880" y="457200"/>
            <a:ext cx="1524240" cy="401760"/>
          </a:xfrm>
          <a:prstGeom prst="rect">
            <a:avLst/>
          </a:prstGeom>
          <a:ln w="0">
            <a:noFill/>
          </a:ln>
        </p:spPr>
      </p:pic>
      <p:sp>
        <p:nvSpPr>
          <p:cNvPr id="16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9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B5CC505-A704-492D-ABF6-4EB7D50E53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30" name="Picture 2" descr=""/>
          <p:cNvPicPr/>
          <p:nvPr/>
        </p:nvPicPr>
        <p:blipFill>
          <a:blip r:embed="rId2"/>
          <a:stretch/>
        </p:blipFill>
        <p:spPr>
          <a:xfrm>
            <a:off x="7238880" y="457200"/>
            <a:ext cx="1524240" cy="401760"/>
          </a:xfrm>
          <a:prstGeom prst="rect">
            <a:avLst/>
          </a:prstGeom>
          <a:ln w="0">
            <a:noFill/>
          </a:ln>
        </p:spPr>
      </p:pic>
      <p:sp>
        <p:nvSpPr>
          <p:cNvPr id="17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3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C04D4B7-9B0A-4638-A650-62DFA29FD2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73" name="Picture 2" descr=""/>
          <p:cNvPicPr/>
          <p:nvPr/>
        </p:nvPicPr>
        <p:blipFill>
          <a:blip r:embed="rId2"/>
          <a:stretch/>
        </p:blipFill>
        <p:spPr>
          <a:xfrm>
            <a:off x="7238880" y="457200"/>
            <a:ext cx="1524240" cy="401760"/>
          </a:xfrm>
          <a:prstGeom prst="rect">
            <a:avLst/>
          </a:prstGeom>
          <a:ln w="0">
            <a:noFill/>
          </a:ln>
        </p:spPr>
      </p:pic>
      <p:sp>
        <p:nvSpPr>
          <p:cNvPr id="17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7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7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69F462D-1B61-44EA-84BD-CB60894A88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16" name="Picture 2" descr=""/>
          <p:cNvPicPr/>
          <p:nvPr/>
        </p:nvPicPr>
        <p:blipFill>
          <a:blip r:embed="rId2"/>
          <a:stretch/>
        </p:blipFill>
        <p:spPr>
          <a:xfrm>
            <a:off x="7238880" y="457200"/>
            <a:ext cx="1524240" cy="401760"/>
          </a:xfrm>
          <a:prstGeom prst="rect">
            <a:avLst/>
          </a:prstGeom>
          <a:ln w="0">
            <a:noFill/>
          </a:ln>
        </p:spPr>
      </p:pic>
      <p:sp>
        <p:nvSpPr>
          <p:cNvPr id="18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9"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20"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21"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C097DFB-57EA-4DEC-B00F-3D887FFF71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9" name="Picture 2" descr=""/>
          <p:cNvPicPr/>
          <p:nvPr/>
        </p:nvPicPr>
        <p:blipFill>
          <a:blip r:embed="rId2"/>
          <a:stretch/>
        </p:blipFill>
        <p:spPr>
          <a:xfrm>
            <a:off x="7238880" y="457200"/>
            <a:ext cx="1524240" cy="401760"/>
          </a:xfrm>
          <a:prstGeom prst="rect">
            <a:avLst/>
          </a:prstGeom>
          <a:ln w="0">
            <a:noFill/>
          </a:ln>
        </p:spPr>
      </p:pic>
      <p:sp>
        <p:nvSpPr>
          <p:cNvPr id="18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6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6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914E1F4-C4EF-41A4-B12B-F2DE2F7A4B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02" name="Picture 2" descr=""/>
          <p:cNvPicPr/>
          <p:nvPr/>
        </p:nvPicPr>
        <p:blipFill>
          <a:blip r:embed="rId2"/>
          <a:stretch/>
        </p:blipFill>
        <p:spPr>
          <a:xfrm>
            <a:off x="7238880" y="457200"/>
            <a:ext cx="1524240" cy="401760"/>
          </a:xfrm>
          <a:prstGeom prst="rect">
            <a:avLst/>
          </a:prstGeom>
          <a:ln w="0">
            <a:noFill/>
          </a:ln>
        </p:spPr>
      </p:pic>
      <p:sp>
        <p:nvSpPr>
          <p:cNvPr id="19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0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0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CA63BEF-39D7-459C-AAFA-AD937DEE49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45" name="Picture 2" descr=""/>
          <p:cNvPicPr/>
          <p:nvPr/>
        </p:nvPicPr>
        <p:blipFill>
          <a:blip r:embed="rId2"/>
          <a:stretch/>
        </p:blipFill>
        <p:spPr>
          <a:xfrm>
            <a:off x="7238880" y="457200"/>
            <a:ext cx="1524240" cy="401760"/>
          </a:xfrm>
          <a:prstGeom prst="rect">
            <a:avLst/>
          </a:prstGeom>
          <a:ln w="0">
            <a:noFill/>
          </a:ln>
        </p:spPr>
      </p:pic>
      <p:sp>
        <p:nvSpPr>
          <p:cNvPr id="19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4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5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F73648C-6DD9-4B18-88A0-2F1D97D03E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88" name="Picture 2" descr=""/>
          <p:cNvPicPr/>
          <p:nvPr/>
        </p:nvPicPr>
        <p:blipFill>
          <a:blip r:embed="rId2"/>
          <a:stretch/>
        </p:blipFill>
        <p:spPr>
          <a:xfrm>
            <a:off x="7238880" y="457200"/>
            <a:ext cx="1524240" cy="401760"/>
          </a:xfrm>
          <a:prstGeom prst="rect">
            <a:avLst/>
          </a:prstGeom>
          <a:ln w="0">
            <a:noFill/>
          </a:ln>
        </p:spPr>
      </p:pic>
      <p:sp>
        <p:nvSpPr>
          <p:cNvPr id="19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92"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93"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CF0539B-3A5A-435F-A56C-22902EA8BE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6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0" name="Picture 10" descr=""/>
          <p:cNvPicPr/>
          <p:nvPr/>
        </p:nvPicPr>
        <p:blipFill>
          <a:blip r:embed="rId2"/>
          <a:stretch/>
        </p:blipFill>
        <p:spPr>
          <a:xfrm>
            <a:off x="95400" y="6167520"/>
            <a:ext cx="1207800" cy="554040"/>
          </a:xfrm>
          <a:prstGeom prst="rect">
            <a:avLst/>
          </a:prstGeom>
          <a:ln w="0">
            <a:noFill/>
          </a:ln>
        </p:spPr>
      </p:pic>
      <p:sp>
        <p:nvSpPr>
          <p:cNvPr id="171"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2"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7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5" name="PlaceHolder 3"/>
          <p:cNvSpPr>
            <a:spLocks noGrp="1"/>
          </p:cNvSpPr>
          <p:nvPr>
            <p:ph type="sldNum" idx="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1A0C161-7962-4FC6-91BC-ED22F1C4CCA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1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14" name="Picture 10" descr=""/>
          <p:cNvPicPr/>
          <p:nvPr/>
        </p:nvPicPr>
        <p:blipFill>
          <a:blip r:embed="rId2"/>
          <a:stretch/>
        </p:blipFill>
        <p:spPr>
          <a:xfrm>
            <a:off x="95400" y="6167520"/>
            <a:ext cx="1207800" cy="554040"/>
          </a:xfrm>
          <a:prstGeom prst="rect">
            <a:avLst/>
          </a:prstGeom>
          <a:ln w="0">
            <a:noFill/>
          </a:ln>
        </p:spPr>
      </p:pic>
      <p:pic>
        <p:nvPicPr>
          <p:cNvPr id="215"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21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8" name="PlaceHolder 3"/>
          <p:cNvSpPr>
            <a:spLocks noGrp="1"/>
          </p:cNvSpPr>
          <p:nvPr>
            <p:ph type="sldNum" idx="1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7DEA4820-08FA-4972-842B-4A8103F5D40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5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57" name="Picture 10" descr=""/>
          <p:cNvPicPr/>
          <p:nvPr/>
        </p:nvPicPr>
        <p:blipFill>
          <a:blip r:embed="rId2"/>
          <a:stretch/>
        </p:blipFill>
        <p:spPr>
          <a:xfrm>
            <a:off x="95400" y="6167520"/>
            <a:ext cx="1207800" cy="554040"/>
          </a:xfrm>
          <a:prstGeom prst="rect">
            <a:avLst/>
          </a:prstGeom>
          <a:ln w="0">
            <a:noFill/>
          </a:ln>
        </p:spPr>
      </p:pic>
      <p:pic>
        <p:nvPicPr>
          <p:cNvPr id="258"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25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61" name="PlaceHolder 3"/>
          <p:cNvSpPr>
            <a:spLocks noGrp="1"/>
          </p:cNvSpPr>
          <p:nvPr>
            <p:ph type="sldNum" idx="1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53670CF0-3340-4F3D-809C-B9D3B8287FC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9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00" name="Picture 10" descr=""/>
          <p:cNvPicPr/>
          <p:nvPr/>
        </p:nvPicPr>
        <p:blipFill>
          <a:blip r:embed="rId2"/>
          <a:stretch/>
        </p:blipFill>
        <p:spPr>
          <a:xfrm>
            <a:off x="95400" y="6167520"/>
            <a:ext cx="1207800" cy="554040"/>
          </a:xfrm>
          <a:prstGeom prst="rect">
            <a:avLst/>
          </a:prstGeom>
          <a:ln w="0">
            <a:noFill/>
          </a:ln>
        </p:spPr>
      </p:pic>
      <p:pic>
        <p:nvPicPr>
          <p:cNvPr id="301"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30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04" name="PlaceHolder 3"/>
          <p:cNvSpPr>
            <a:spLocks noGrp="1"/>
          </p:cNvSpPr>
          <p:nvPr>
            <p:ph type="sldNum" idx="1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391EA3E-0377-498C-A3D1-ED10C790F84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4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43" name="Picture 10" descr=""/>
          <p:cNvPicPr/>
          <p:nvPr/>
        </p:nvPicPr>
        <p:blipFill>
          <a:blip r:embed="rId2"/>
          <a:stretch/>
        </p:blipFill>
        <p:spPr>
          <a:xfrm>
            <a:off x="95400" y="6167520"/>
            <a:ext cx="1207800" cy="554040"/>
          </a:xfrm>
          <a:prstGeom prst="rect">
            <a:avLst/>
          </a:prstGeom>
          <a:ln w="0">
            <a:noFill/>
          </a:ln>
        </p:spPr>
      </p:pic>
      <p:pic>
        <p:nvPicPr>
          <p:cNvPr id="34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34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47" name="PlaceHolder 3"/>
          <p:cNvSpPr>
            <a:spLocks noGrp="1"/>
          </p:cNvSpPr>
          <p:nvPr>
            <p:ph type="sldNum" idx="1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D69F19A-D1B5-40C8-AD49-217F8510C54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spruitt@achieve.org" TargetMode="External"/><Relationship Id="rId2" Type="http://schemas.openxmlformats.org/officeDocument/2006/relationships/hyperlink" Target="http://www.nextgenscience.org/" TargetMode="External"/><Relationship Id="rId3" Type="http://schemas.openxmlformats.org/officeDocument/2006/relationships/image" Target="../media/image17.jpeg"/><Relationship Id="rId4" Type="http://schemas.openxmlformats.org/officeDocument/2006/relationships/slideLayout" Target="../slideLayouts/slideLayout7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nsta.org/about/standardsupdate/" TargetMode="External"/><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jpeg"/><Relationship Id="rId8" Type="http://schemas.openxmlformats.org/officeDocument/2006/relationships/hyperlink" Target="http://www.nap.edu/catalog.php?record_id=13165" TargetMode="External"/><Relationship Id="rId9" Type="http://schemas.openxmlformats.org/officeDocument/2006/relationships/image" Target="../media/image32.jpeg"/><Relationship Id="rId10" Type="http://schemas.openxmlformats.org/officeDocument/2006/relationships/slideLayout" Target="../slideLayouts/slideLayout505.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egulations.delaware.gov/register/august2013/proposed/17%20DE%20Reg%20148%2008-01-13.ht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9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97.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0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7" name="Picture 2" descr="Untitled-1"/>
          <p:cNvPicPr/>
          <p:nvPr/>
        </p:nvPicPr>
        <p:blipFill>
          <a:blip r:embed="rId1"/>
          <a:stretch/>
        </p:blipFill>
        <p:spPr>
          <a:xfrm>
            <a:off x="380880" y="77760"/>
            <a:ext cx="8458200" cy="2629080"/>
          </a:xfrm>
          <a:prstGeom prst="rect">
            <a:avLst/>
          </a:prstGeom>
          <a:ln w="0">
            <a:noFill/>
          </a:ln>
        </p:spPr>
      </p:pic>
      <p:sp>
        <p:nvSpPr>
          <p:cNvPr id="2038" name="Text Box 3"/>
          <p:cNvSpPr/>
          <p:nvPr/>
        </p:nvSpPr>
        <p:spPr>
          <a:xfrm>
            <a:off x="1358640" y="2021040"/>
            <a:ext cx="588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MS PGothic"/>
              </a:rPr>
              <a:t>LIVE INTERACTIVE LEARNING @ YOUR DESKTOP</a:t>
            </a:r>
            <a:endParaRPr b="0" lang="en-US" sz="2000" spc="-1" strike="noStrike">
              <a:solidFill>
                <a:srgbClr val="000000"/>
              </a:solidFill>
              <a:latin typeface="Calibri"/>
            </a:endParaRPr>
          </a:p>
        </p:txBody>
      </p:sp>
      <p:sp>
        <p:nvSpPr>
          <p:cNvPr id="2039" name="Rectangle 6"/>
          <p:cNvSpPr/>
          <p:nvPr/>
        </p:nvSpPr>
        <p:spPr>
          <a:xfrm>
            <a:off x="7093080" y="6238800"/>
            <a:ext cx="180000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0" name="TextBox 1"/>
          <p:cNvSpPr/>
          <p:nvPr/>
        </p:nvSpPr>
        <p:spPr>
          <a:xfrm>
            <a:off x="9307440" y="2995560"/>
            <a:ext cx="1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1" name="Slide Number Placeholder 4"/>
          <p:cNvSpPr/>
          <p:nvPr/>
        </p:nvSpPr>
        <p:spPr>
          <a:xfrm>
            <a:off x="-11160" y="649296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4E5BF78-19B8-415A-8A99-52DCD9248B25}"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2042" name="PlaceHolder 1"/>
          <p:cNvSpPr>
            <a:spLocks noGrp="1"/>
          </p:cNvSpPr>
          <p:nvPr>
            <p:ph type="title"/>
          </p:nvPr>
        </p:nvSpPr>
        <p:spPr>
          <a:xfrm>
            <a:off x="1142640" y="-449280"/>
            <a:ext cx="8001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rt recording—title slide—1 of 3</a:t>
            </a:r>
            <a:endParaRPr b="0" lang="en-US" sz="1200" spc="-1" strike="noStrike">
              <a:solidFill>
                <a:srgbClr val="000000"/>
              </a:solidFill>
              <a:latin typeface="Arial"/>
            </a:endParaRPr>
          </a:p>
        </p:txBody>
      </p:sp>
      <p:sp>
        <p:nvSpPr>
          <p:cNvPr id="2043" name="Text Box 6"/>
          <p:cNvSpPr/>
          <p:nvPr/>
        </p:nvSpPr>
        <p:spPr>
          <a:xfrm>
            <a:off x="533520" y="2895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600" spc="-1" strike="noStrike">
                <a:solidFill>
                  <a:srgbClr val="333399"/>
                </a:solidFill>
                <a:latin typeface="Arial"/>
                <a:ea typeface="MS PGothic"/>
              </a:rPr>
              <a:t>Introducing the Next Generation </a:t>
            </a:r>
            <a:br>
              <a:rPr sz="3600"/>
            </a:br>
            <a:r>
              <a:rPr b="0" lang="en-US" sz="3600" spc="-1" strike="noStrike">
                <a:solidFill>
                  <a:srgbClr val="333399"/>
                </a:solidFill>
                <a:latin typeface="Arial"/>
                <a:ea typeface="MS PGothic"/>
              </a:rPr>
              <a:t>Science Standards</a:t>
            </a:r>
            <a:endParaRPr b="0" lang="en-US" sz="36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333399"/>
                </a:solidFill>
                <a:latin typeface="Arial"/>
                <a:ea typeface="MS PGothic"/>
              </a:rPr>
              <a:t>Originally presented by: Stephen Pruitt</a:t>
            </a:r>
            <a:endParaRPr b="0" lang="en-US" sz="2400" spc="-1" strike="noStrike">
              <a:solidFill>
                <a:srgbClr val="000000"/>
              </a:solidFill>
              <a:latin typeface="Calibri"/>
            </a:endParaRPr>
          </a:p>
        </p:txBody>
      </p:sp>
      <p:pic>
        <p:nvPicPr>
          <p:cNvPr id="2044" name="Picture 6" descr=""/>
          <p:cNvPicPr/>
          <p:nvPr/>
        </p:nvPicPr>
        <p:blipFill>
          <a:blip r:embed="rId2"/>
          <a:stretch/>
        </p:blipFill>
        <p:spPr>
          <a:xfrm>
            <a:off x="3929040" y="4842000"/>
            <a:ext cx="1100160" cy="146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3" name="Picture 5" descr=""/>
          <p:cNvPicPr/>
          <p:nvPr/>
        </p:nvPicPr>
        <p:blipFill>
          <a:blip r:embed="rId1"/>
          <a:srcRect l="17333" t="15685" r="18745" b="7870"/>
          <a:stretch/>
        </p:blipFill>
        <p:spPr>
          <a:xfrm>
            <a:off x="76320" y="304920"/>
            <a:ext cx="9067680" cy="65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New Content</a:t>
            </a:r>
            <a:endParaRPr b="0" lang="en-US" sz="3200" spc="-1" strike="noStrike">
              <a:solidFill>
                <a:srgbClr val="000000"/>
              </a:solidFill>
              <a:latin typeface="Arial"/>
            </a:endParaRPr>
          </a:p>
        </p:txBody>
      </p:sp>
      <p:sp>
        <p:nvSpPr>
          <p:cNvPr id="2085" name=""/>
          <p:cNvSpPr txBox="1"/>
          <p:nvPr/>
        </p:nvSpPr>
        <p:spPr>
          <a:xfrm>
            <a:off x="533520" y="1447920"/>
            <a:ext cx="8229600" cy="4525920"/>
          </a:xfrm>
          <a:prstGeom prst="rect">
            <a:avLst/>
          </a:prstGeom>
          <a:noFill/>
          <a:ln w="0">
            <a:noFill/>
          </a:ln>
        </p:spPr>
        <p:txBody>
          <a:bodyPr anchor="t">
            <a:normAutofit fontScale="99000"/>
          </a:bodyPr>
          <a:p>
            <a:pPr marL="337680" indent="-33768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ces have been added to support </a:t>
            </a:r>
            <a:r>
              <a:rPr b="0" lang="en-US" sz="1900" spc="-1" strike="noStrike">
                <a:solidFill>
                  <a:srgbClr val="000000"/>
                </a:solidFill>
                <a:latin typeface="Arial"/>
              </a:rPr>
              <a:t>the</a:t>
            </a:r>
            <a:r>
              <a:rPr b="0" lang="en-US" sz="1700" spc="-1" strike="noStrike">
                <a:solidFill>
                  <a:srgbClr val="000000"/>
                </a:solidFill>
                <a:latin typeface="Arial"/>
              </a:rPr>
              <a:t> NGSS and in response to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A – Conceptual Shif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B – Responses to Public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C – College and Career Readine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D – </a:t>
            </a:r>
            <a:r>
              <a:rPr b="0" lang="en-US" sz="1700" spc="-1" strike="noStrike">
                <a:solidFill>
                  <a:srgbClr val="000000"/>
                </a:solidFill>
                <a:latin typeface="Arial"/>
              </a:rPr>
              <a:t>All Standards, All Studen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E – </a:t>
            </a:r>
            <a:r>
              <a:rPr b="0" lang="en-US" sz="1700" spc="-1" strike="noStrike">
                <a:solidFill>
                  <a:srgbClr val="000000"/>
                </a:solidFill>
                <a:latin typeface="Arial"/>
              </a:rPr>
              <a:t>Disciplinary Core Idea Progression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F – </a:t>
            </a:r>
            <a:r>
              <a:rPr b="0" lang="en-US" sz="1700" spc="-1" strike="noStrike">
                <a:solidFill>
                  <a:srgbClr val="000000"/>
                </a:solidFill>
                <a:latin typeface="Arial"/>
              </a:rPr>
              <a:t>Science and Engineering Practice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G – </a:t>
            </a:r>
            <a:r>
              <a:rPr b="0" lang="en-US" sz="1700" spc="-1" strike="noStrike">
                <a:solidFill>
                  <a:srgbClr val="000000"/>
                </a:solidFill>
                <a:latin typeface="Arial"/>
              </a:rPr>
              <a:t>Crosscutting Concept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H – </a:t>
            </a:r>
            <a:r>
              <a:rPr b="0" lang="en-US" sz="1700" spc="-1" strike="noStrike">
                <a:solidFill>
                  <a:srgbClr val="000000"/>
                </a:solidFill>
                <a:latin typeface="Arial"/>
              </a:rPr>
              <a:t>Nature of Science</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I – </a:t>
            </a:r>
            <a:r>
              <a:rPr b="0" lang="en-US" sz="1700" spc="-1" strike="noStrike">
                <a:solidFill>
                  <a:srgbClr val="000000"/>
                </a:solidFill>
                <a:latin typeface="Arial"/>
              </a:rPr>
              <a:t>Engineering Design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J – Science, Technology, Society, and the Environment</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K – Model Course Mapping in Middle and High School</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L – Connections to Common Core State Standards in Mathematic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M – Connections to Common Core State Standards in ELA</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700" spc="-1" strike="noStrike">
              <a:solidFill>
                <a:srgbClr val="000000"/>
              </a:solidFill>
              <a:latin typeface="Arial"/>
            </a:endParaRPr>
          </a:p>
        </p:txBody>
      </p:sp>
      <p:sp>
        <p:nvSpPr>
          <p:cNvPr id="2086" name="Rectangle 4"/>
          <p:cNvSpPr/>
          <p:nvPr/>
        </p:nvSpPr>
        <p:spPr>
          <a:xfrm>
            <a:off x="76320" y="6172200"/>
            <a:ext cx="1523880" cy="609480"/>
          </a:xfrm>
          <a:prstGeom prst="rect">
            <a:avLst/>
          </a:prstGeom>
          <a:solidFill>
            <a:srgbClr val="ffffff"/>
          </a:solidFill>
          <a:ln w="0">
            <a:noFill/>
          </a:ln>
        </p:spPr>
        <p:style>
          <a:lnRef idx="0"/>
          <a:fillRef idx="0"/>
          <a:effectRef idx="0"/>
          <a:fontRef idx="minor"/>
        </p:style>
        <p:txBody>
          <a:bodyPr lIns="64080" rIns="64080" tIns="32040" bIns="32040" anchor="ctr">
            <a:noAutofit/>
          </a:bodyPr>
          <a:p>
            <a:pPr algn="ct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rPr>
              <a:t>What Should the NGSS Do? </a:t>
            </a:r>
            <a:endParaRPr b="0" lang="en-US" sz="4600" spc="-1" strike="noStrike">
              <a:solidFill>
                <a:srgbClr val="000000"/>
              </a:solidFill>
              <a:latin typeface="Calibri"/>
            </a:endParaRPr>
          </a:p>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rPr>
              <a:t>What Will the NGSS Not Do?</a:t>
            </a:r>
            <a:endParaRPr b="0" lang="en-US" sz="4600" spc="-1" strike="noStrike">
              <a:solidFill>
                <a:srgbClr val="000000"/>
              </a:solidFill>
              <a:latin typeface="Calibri"/>
            </a:endParaRPr>
          </a:p>
        </p:txBody>
      </p:sp>
      <p:pic>
        <p:nvPicPr>
          <p:cNvPr id="2088" name="Picture 10" descr=""/>
          <p:cNvPicPr/>
          <p:nvPr/>
        </p:nvPicPr>
        <p:blipFill>
          <a:blip r:embed="rId2"/>
          <a:stretch/>
        </p:blipFill>
        <p:spPr>
          <a:xfrm>
            <a:off x="2730600" y="385920"/>
            <a:ext cx="3365280" cy="1503360"/>
          </a:xfrm>
          <a:prstGeom prst="rect">
            <a:avLst/>
          </a:prstGeom>
          <a:ln w="0">
            <a:noFill/>
          </a:ln>
        </p:spPr>
      </p:pic>
      <p:pic>
        <p:nvPicPr>
          <p:cNvPr id="2089" name="Picture 3" descr=""/>
          <p:cNvPicPr/>
          <p:nvPr/>
        </p:nvPicPr>
        <p:blipFill>
          <a:blip r:embed="rId3"/>
          <a:stretch/>
        </p:blipFill>
        <p:spPr>
          <a:xfrm>
            <a:off x="76320" y="76320"/>
            <a:ext cx="761760" cy="1012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scribe Achievement, Not Instruction</a:t>
            </a:r>
            <a:endParaRPr b="0" lang="en-US" sz="3200" spc="-1" strike="noStrike">
              <a:solidFill>
                <a:srgbClr val="000000"/>
              </a:solidFill>
              <a:latin typeface="Arial"/>
            </a:endParaRPr>
          </a:p>
        </p:txBody>
      </p:sp>
      <p:sp>
        <p:nvSpPr>
          <p:cNvPr id="2091" name=""/>
          <p:cNvSpPr txBox="1"/>
          <p:nvPr/>
        </p:nvSpPr>
        <p:spPr>
          <a:xfrm>
            <a:off x="228600" y="1600200"/>
            <a:ext cx="876312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a clear vision of the learning goals for stud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the student performance at the conclusion of instruc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are NOT a description of curriculum.</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do NOT dictat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velop Understanding of Core Ideas, Not Lessons</a:t>
            </a:r>
            <a:endParaRPr b="0" lang="en-US" sz="3200" spc="-1" strike="noStrike">
              <a:solidFill>
                <a:srgbClr val="000000"/>
              </a:solidFill>
              <a:latin typeface="Arial"/>
            </a:endParaRPr>
          </a:p>
        </p:txBody>
      </p:sp>
      <p:sp>
        <p:nvSpPr>
          <p:cNvPr id="2093" name=""/>
          <p:cNvSpPr txBox="1"/>
          <p:nvPr/>
        </p:nvSpPr>
        <p:spPr>
          <a:xfrm>
            <a:off x="304560" y="1600200"/>
            <a:ext cx="8458200" cy="4525920"/>
          </a:xfrm>
          <a:prstGeom prst="rect">
            <a:avLst/>
          </a:prstGeom>
          <a:noFill/>
          <a:ln w="0">
            <a:noFill/>
          </a:ln>
        </p:spPr>
        <p:txBody>
          <a:bodyPr anchor="t">
            <a:normAutofit/>
          </a:bodyPr>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classroom implementation of the NGSS will require students to understand and apply the Disciplinary Core Ideas, Science and Engineering Practice, and Crosscutting Concepts through the development of ideas across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implementation of the NGSS will require viewing instruction and assessment as the “bundling” of performance expectations into coherent lessons and assessments.</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Unsuccessful classroom implementation of the NGSS will continue the use of the three dimensions as separate entities and les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4"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rPr>
              <a:t>Moving from Standards to Instruction</a:t>
            </a:r>
            <a:endParaRPr b="0" lang="en-US" sz="4600" spc="-1" strike="noStrike">
              <a:solidFill>
                <a:srgbClr val="000000"/>
              </a:solidFill>
              <a:latin typeface="Calibri"/>
            </a:endParaRPr>
          </a:p>
        </p:txBody>
      </p:sp>
      <p:pic>
        <p:nvPicPr>
          <p:cNvPr id="2095" name="Picture 10" descr=""/>
          <p:cNvPicPr/>
          <p:nvPr/>
        </p:nvPicPr>
        <p:blipFill>
          <a:blip r:embed="rId2"/>
          <a:stretch/>
        </p:blipFill>
        <p:spPr>
          <a:xfrm>
            <a:off x="2730600" y="385920"/>
            <a:ext cx="3365280" cy="1503360"/>
          </a:xfrm>
          <a:prstGeom prst="rect">
            <a:avLst/>
          </a:prstGeom>
          <a:ln w="0">
            <a:noFill/>
          </a:ln>
        </p:spPr>
      </p:pic>
      <p:pic>
        <p:nvPicPr>
          <p:cNvPr id="2096" name="Picture 3" descr=""/>
          <p:cNvPicPr/>
          <p:nvPr/>
        </p:nvPicPr>
        <p:blipFill>
          <a:blip r:embed="rId3"/>
          <a:stretch/>
        </p:blipFill>
        <p:spPr>
          <a:xfrm>
            <a:off x="76320" y="76320"/>
            <a:ext cx="761760" cy="1012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74320"/>
            <a:ext cx="8229600" cy="1143000"/>
          </a:xfrm>
          <a:prstGeom prst="rect">
            <a:avLst/>
          </a:prstGeom>
          <a:noFill/>
          <a:ln w="0">
            <a:noFill/>
          </a:ln>
        </p:spPr>
        <p:txBody>
          <a:bodyPr lIns="91080" rIns="9108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Progressing to Understanding</a:t>
            </a:r>
            <a:endParaRPr b="0" lang="en-US" sz="3200" spc="-1" strike="noStrike">
              <a:solidFill>
                <a:srgbClr val="000000"/>
              </a:solidFill>
              <a:latin typeface="Arial"/>
            </a:endParaRPr>
          </a:p>
        </p:txBody>
      </p:sp>
      <p:graphicFrame>
        <p:nvGraphicFramePr>
          <p:cNvPr id="2098" name=""/>
          <p:cNvGraphicFramePr/>
          <p:nvPr/>
        </p:nvGraphicFramePr>
        <p:xfrm>
          <a:off x="380880" y="1857240"/>
          <a:ext cx="8382240" cy="4143600"/>
        </p:xfrm>
        <a:graphic>
          <a:graphicData uri="http://schemas.openxmlformats.org/drawingml/2006/table">
            <a:tbl>
              <a:tblPr/>
              <a:tblGrid>
                <a:gridCol w="971640"/>
                <a:gridCol w="1308240"/>
                <a:gridCol w="1869840"/>
                <a:gridCol w="1946520"/>
                <a:gridCol w="2286000"/>
              </a:tblGrid>
              <a:tr h="32256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K-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3-5</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6-8</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9-1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382104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PS1.A </a:t>
                      </a:r>
                      <a:endParaRPr b="0" lang="en-US" sz="1300" spc="-1" strike="noStrike">
                        <a:solidFill>
                          <a:srgbClr val="000000"/>
                        </a:solidFill>
                        <a:latin typeface="Calibri"/>
                      </a:endParaRPr>
                    </a:p>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Structure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Objects can be built up from smaller parts. Matter exists as different substances that have observable different properties. Different properties are suited to different purpos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Because matter exists as particles that are too small to see, matter is always conserved even if it seems to disappear. Measurements of a variety of observable properties can be used to identify particular substanc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fact that matter is composed of atoms and molecules can be used to explain the properties of substances, diversity of materials, states of matter, phase changes, and conservation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sub-atomic structural model and interactions between electric charges at the atomic scale can be used to explain the structure and interactions of matter, including chemical reactions.  Repeating patterns of the periodic table reflect patterns of outer electrons. A stable molecule has less energy than the same set of atoms separated; one must provide at least this energy in order to take the molecule apart.</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TextBox 8"/>
          <p:cNvSpPr/>
          <p:nvPr/>
        </p:nvSpPr>
        <p:spPr>
          <a:xfrm>
            <a:off x="1600200" y="1571760"/>
            <a:ext cx="5587920" cy="628920"/>
          </a:xfrm>
          <a:prstGeom prst="rect">
            <a:avLst/>
          </a:prstGeom>
          <a:solidFill>
            <a:srgbClr val="8eb4e3"/>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Calibri"/>
              </a:rPr>
              <a:t>Instructional Unit:  Conservation and Interactions of Matter</a:t>
            </a:r>
            <a:endParaRPr b="0" lang="en-US" sz="1800" spc="-1" strike="noStrike">
              <a:solidFill>
                <a:srgbClr val="000000"/>
              </a:solidFill>
              <a:latin typeface="Calibri"/>
            </a:endParaRPr>
          </a:p>
        </p:txBody>
      </p:sp>
      <p:sp>
        <p:nvSpPr>
          <p:cNvPr id="2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Instructional Bundling – HS Physical </a:t>
            </a:r>
            <a:br>
              <a:rPr sz="3200"/>
            </a:br>
            <a:r>
              <a:rPr b="0" lang="en-US" sz="3200" spc="-1" strike="noStrike">
                <a:solidFill>
                  <a:srgbClr val="000000"/>
                </a:solidFill>
                <a:latin typeface="Arial"/>
              </a:rPr>
              <a:t>Sciences</a:t>
            </a:r>
            <a:endParaRPr b="0" lang="en-US" sz="3200" spc="-1" strike="noStrike">
              <a:solidFill>
                <a:srgbClr val="000000"/>
              </a:solidFill>
              <a:latin typeface="Arial"/>
            </a:endParaRPr>
          </a:p>
        </p:txBody>
      </p:sp>
      <p:sp>
        <p:nvSpPr>
          <p:cNvPr id="2101" name=""/>
          <p:cNvSpPr txBox="1"/>
          <p:nvPr/>
        </p:nvSpPr>
        <p:spPr>
          <a:xfrm>
            <a:off x="4381560" y="4000680"/>
            <a:ext cx="4317840" cy="2643120"/>
          </a:xfrm>
          <a:prstGeom prst="rect">
            <a:avLst/>
          </a:prstGeom>
          <a:noFill/>
          <a:ln w="0">
            <a:noFill/>
          </a:ln>
        </p:spPr>
        <p:txBody>
          <a:bodyPr anchor="t">
            <a:normAutofit/>
          </a:bodyPr>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Within this instructional unit, four of the eight practices are highlighted in the standard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Classroom instruction should use additional practices to allow students to fully engage in the learning.</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he classroom instruction should have students </a:t>
            </a:r>
            <a:r>
              <a:rPr b="0" lang="en-US" sz="1600" spc="-1" strike="noStrike" u="sng">
                <a:solidFill>
                  <a:srgbClr val="000000"/>
                </a:solidFill>
                <a:uFillTx/>
                <a:latin typeface="Arial"/>
              </a:rPr>
              <a:t>ask questions</a:t>
            </a:r>
            <a:r>
              <a:rPr b="0" lang="en-US" sz="1600" spc="-1" strike="noStrike">
                <a:solidFill>
                  <a:srgbClr val="000000"/>
                </a:solidFill>
                <a:latin typeface="Arial"/>
              </a:rPr>
              <a:t>, use </a:t>
            </a:r>
            <a:r>
              <a:rPr b="0" lang="en-US" sz="1600" spc="-1" strike="noStrike" u="sng">
                <a:solidFill>
                  <a:srgbClr val="000000"/>
                </a:solidFill>
                <a:uFillTx/>
                <a:latin typeface="Arial"/>
              </a:rPr>
              <a:t>investigation</a:t>
            </a:r>
            <a:r>
              <a:rPr b="0" lang="en-US" sz="1600" spc="-1" strike="noStrike">
                <a:solidFill>
                  <a:srgbClr val="000000"/>
                </a:solidFill>
                <a:latin typeface="Arial"/>
              </a:rPr>
              <a:t>s </a:t>
            </a:r>
            <a:r>
              <a:rPr b="0" lang="en-US" sz="1600" spc="-1" strike="noStrike" u="sng">
                <a:solidFill>
                  <a:srgbClr val="000000"/>
                </a:solidFill>
                <a:uFillTx/>
                <a:latin typeface="Arial"/>
              </a:rPr>
              <a:t>and analyze data </a:t>
            </a:r>
            <a:r>
              <a:rPr b="0" lang="en-US" sz="1600" spc="-1" strike="noStrike">
                <a:solidFill>
                  <a:srgbClr val="000000"/>
                </a:solidFill>
                <a:latin typeface="Arial"/>
              </a:rPr>
              <a:t>to develop the explanations.</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600" spc="-1" strike="noStrike">
              <a:solidFill>
                <a:srgbClr val="000000"/>
              </a:solidFill>
              <a:latin typeface="Arial"/>
            </a:endParaRPr>
          </a:p>
        </p:txBody>
      </p:sp>
      <p:sp>
        <p:nvSpPr>
          <p:cNvPr id="2102" name="TextBox 6"/>
          <p:cNvSpPr/>
          <p:nvPr/>
        </p:nvSpPr>
        <p:spPr>
          <a:xfrm>
            <a:off x="1397160" y="2071800"/>
            <a:ext cx="126972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rPr>
              <a:t>PS1:  Matter</a:t>
            </a:r>
            <a:endParaRPr b="0" lang="en-US" sz="1400" spc="-1" strike="noStrike">
              <a:solidFill>
                <a:srgbClr val="000000"/>
              </a:solidFill>
              <a:latin typeface="Calibri"/>
            </a:endParaRPr>
          </a:p>
        </p:txBody>
      </p:sp>
      <p:sp>
        <p:nvSpPr>
          <p:cNvPr id="2103" name="TextBox 13"/>
          <p:cNvSpPr/>
          <p:nvPr/>
        </p:nvSpPr>
        <p:spPr>
          <a:xfrm>
            <a:off x="6286680" y="2500200"/>
            <a:ext cx="2730240" cy="117540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3. Dev</a:t>
            </a:r>
            <a:r>
              <a:rPr b="1" lang="en-US" sz="1200" spc="-1" strike="noStrike">
                <a:solidFill>
                  <a:srgbClr val="000000"/>
                </a:solidFill>
                <a:latin typeface="Arial"/>
                <a:ea typeface="Arial"/>
              </a:rPr>
              <a:t>elop and use models to illustrate </a:t>
            </a:r>
            <a:r>
              <a:rPr b="0" lang="en-US" sz="1200" spc="-1" strike="noStrike">
                <a:solidFill>
                  <a:srgbClr val="000000"/>
                </a:solidFill>
                <a:latin typeface="Arial"/>
                <a:ea typeface="Arial"/>
              </a:rPr>
              <a:t>that the different forms of energy, both at the microscopic and macroscopic scale, can be accounted for as either motions of particles or energy stored in fields.</a:t>
            </a:r>
            <a:endParaRPr b="0" lang="en-US" sz="1200" spc="-1" strike="noStrike">
              <a:solidFill>
                <a:srgbClr val="000000"/>
              </a:solidFill>
              <a:latin typeface="Calibri"/>
            </a:endParaRPr>
          </a:p>
        </p:txBody>
      </p:sp>
      <p:sp>
        <p:nvSpPr>
          <p:cNvPr id="2104" name="TextBox 14"/>
          <p:cNvSpPr/>
          <p:nvPr/>
        </p:nvSpPr>
        <p:spPr>
          <a:xfrm>
            <a:off x="6921360" y="2071800"/>
            <a:ext cx="133380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rPr>
              <a:t>PS3:  Energy</a:t>
            </a:r>
            <a:endParaRPr b="0" lang="en-US" sz="1400" spc="-1" strike="noStrike">
              <a:solidFill>
                <a:srgbClr val="000000"/>
              </a:solidFill>
              <a:latin typeface="Calibri"/>
            </a:endParaRPr>
          </a:p>
        </p:txBody>
      </p:sp>
      <p:sp>
        <p:nvSpPr>
          <p:cNvPr id="2105" name="TextBox 18"/>
          <p:cNvSpPr/>
          <p:nvPr/>
        </p:nvSpPr>
        <p:spPr>
          <a:xfrm>
            <a:off x="4191120" y="2500200"/>
            <a:ext cx="1968480" cy="135792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2-6. </a:t>
            </a:r>
            <a:r>
              <a:rPr b="1" lang="en-US" sz="1200" spc="-1" strike="noStrike">
                <a:solidFill>
                  <a:srgbClr val="000000"/>
                </a:solidFill>
                <a:latin typeface="Arial"/>
                <a:ea typeface="Arial"/>
              </a:rPr>
              <a:t>Communicate scientific and technical information</a:t>
            </a:r>
            <a:r>
              <a:rPr b="0" lang="en-US" sz="1200" spc="-1" strike="noStrike">
                <a:solidFill>
                  <a:srgbClr val="000000"/>
                </a:solidFill>
                <a:latin typeface="Arial"/>
                <a:ea typeface="Arial"/>
              </a:rPr>
              <a:t> about why the molecular-level structure is important in the functioning of designed materials.</a:t>
            </a:r>
            <a:endParaRPr b="0" lang="en-US" sz="1200" spc="-1" strike="noStrike">
              <a:solidFill>
                <a:srgbClr val="000000"/>
              </a:solidFill>
              <a:latin typeface="Calibri"/>
            </a:endParaRPr>
          </a:p>
        </p:txBody>
      </p:sp>
      <p:sp>
        <p:nvSpPr>
          <p:cNvPr id="2106" name="TextBox 19"/>
          <p:cNvSpPr/>
          <p:nvPr/>
        </p:nvSpPr>
        <p:spPr>
          <a:xfrm>
            <a:off x="4851360" y="2071800"/>
            <a:ext cx="1015920" cy="50652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rPr>
              <a:t>PS2:  Forces</a:t>
            </a:r>
            <a:endParaRPr b="0" lang="en-US" sz="1400" spc="-1" strike="noStrike">
              <a:solidFill>
                <a:srgbClr val="000000"/>
              </a:solidFill>
              <a:latin typeface="Calibri"/>
            </a:endParaRPr>
          </a:p>
        </p:txBody>
      </p:sp>
      <p:sp>
        <p:nvSpPr>
          <p:cNvPr id="2107" name="Rectangle 20"/>
          <p:cNvSpPr/>
          <p:nvPr/>
        </p:nvSpPr>
        <p:spPr>
          <a:xfrm>
            <a:off x="63360" y="5929200"/>
            <a:ext cx="1714680" cy="857520"/>
          </a:xfrm>
          <a:prstGeom prst="rect">
            <a:avLst/>
          </a:prstGeom>
          <a:solidFill>
            <a:srgbClr val="ffffff"/>
          </a:solidFill>
          <a:ln w="0">
            <a:noFill/>
          </a:ln>
        </p:spPr>
        <p:style>
          <a:lnRef idx="0"/>
          <a:fillRef idx="0"/>
          <a:effectRef idx="0"/>
          <a:fontRef idx="minor"/>
        </p:style>
        <p:txBody>
          <a:bodyPr lIns="79920" rIns="79920" tIns="39960" bIns="3996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08" name="TextBox 21"/>
          <p:cNvSpPr/>
          <p:nvPr/>
        </p:nvSpPr>
        <p:spPr>
          <a:xfrm>
            <a:off x="127080" y="2500200"/>
            <a:ext cx="3936960" cy="397404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1. </a:t>
            </a:r>
            <a:r>
              <a:rPr b="1" lang="en-US" sz="1200" spc="-1" strike="noStrike">
                <a:solidFill>
                  <a:srgbClr val="000000"/>
                </a:solidFill>
                <a:latin typeface="Arial"/>
                <a:ea typeface="Arial"/>
              </a:rPr>
              <a:t>Use the periodic table as a model to predict </a:t>
            </a:r>
            <a:r>
              <a:rPr b="0" lang="en-US" sz="1200" spc="-1" strike="noStrike">
                <a:solidFill>
                  <a:srgbClr val="000000"/>
                </a:solidFill>
                <a:latin typeface="Arial"/>
                <a:ea typeface="Arial"/>
              </a:rPr>
              <a:t>the relative properties of elements based on the patterns of electrons in the outermost energy level of atom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2. </a:t>
            </a:r>
            <a:r>
              <a:rPr b="1" lang="en-US" sz="1200" spc="-1" strike="noStrike">
                <a:solidFill>
                  <a:srgbClr val="000000"/>
                </a:solidFill>
                <a:latin typeface="Arial"/>
                <a:ea typeface="Arial"/>
              </a:rPr>
              <a:t>Construct and revise an explanation </a:t>
            </a:r>
            <a:r>
              <a:rPr b="0" lang="en-US" sz="1200" spc="-1" strike="noStrike">
                <a:solidFill>
                  <a:srgbClr val="000000"/>
                </a:solidFill>
                <a:latin typeface="Arial"/>
                <a:ea typeface="Arial"/>
              </a:rPr>
              <a:t>for the outcome of a simple chemical reaction based on the outermost electron states of atoms, trends in the periodic table, and knowledge of the patterns of chemical propertie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4. </a:t>
            </a:r>
            <a:r>
              <a:rPr b="1" lang="en-US" sz="1200" spc="-1" strike="noStrike">
                <a:solidFill>
                  <a:srgbClr val="000000"/>
                </a:solidFill>
                <a:latin typeface="Arial"/>
                <a:ea typeface="Arial"/>
              </a:rPr>
              <a:t>Develop and use a model to illustrate</a:t>
            </a:r>
            <a:r>
              <a:rPr b="0" lang="en-US" sz="1200" spc="-1" strike="noStrike">
                <a:solidFill>
                  <a:srgbClr val="000000"/>
                </a:solidFill>
                <a:latin typeface="Arial"/>
                <a:ea typeface="Arial"/>
              </a:rPr>
              <a:t> that the release or absorption of energy from a chemical system depends upon the changes in total bond energy.</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5. Apply scientific principles and evidence to </a:t>
            </a:r>
            <a:r>
              <a:rPr b="1" lang="en-US" sz="1200" spc="-1" strike="noStrike">
                <a:solidFill>
                  <a:srgbClr val="000000"/>
                </a:solidFill>
                <a:latin typeface="Arial"/>
                <a:ea typeface="Arial"/>
              </a:rPr>
              <a:t>provide an explanation </a:t>
            </a:r>
            <a:r>
              <a:rPr b="0" lang="en-US" sz="1200" spc="-1" strike="noStrike">
                <a:solidFill>
                  <a:srgbClr val="000000"/>
                </a:solidFill>
                <a:latin typeface="Arial"/>
                <a:ea typeface="Arial"/>
              </a:rPr>
              <a:t>about the effects of changing the temperature or concentration of the reacting particles on the rate at which a reaction occurs. </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7. </a:t>
            </a:r>
            <a:r>
              <a:rPr b="1" lang="en-US" sz="1200" spc="-1" strike="noStrike">
                <a:solidFill>
                  <a:srgbClr val="000000"/>
                </a:solidFill>
                <a:latin typeface="Arial"/>
                <a:ea typeface="Arial"/>
              </a:rPr>
              <a:t>Use mathematical representations </a:t>
            </a:r>
            <a:r>
              <a:rPr b="0" lang="en-US" sz="1200" spc="-1" strike="noStrike">
                <a:solidFill>
                  <a:srgbClr val="000000"/>
                </a:solidFill>
                <a:latin typeface="Arial"/>
                <a:ea typeface="Arial"/>
              </a:rPr>
              <a:t>to support the claim that atoms, and therefore mass, are conserved during a chemical reactio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89280" rIns="89280" tIns="53640" bIns="5364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400" spc="-1" strike="noStrike">
                <a:solidFill>
                  <a:srgbClr val="000000"/>
                </a:solidFill>
                <a:latin typeface="Arial"/>
              </a:rPr>
              <a:t>Contact Information</a:t>
            </a:r>
            <a:endParaRPr b="0" lang="en-US" sz="3400" spc="-1" strike="noStrike">
              <a:solidFill>
                <a:srgbClr val="000000"/>
              </a:solidFill>
              <a:latin typeface="Arial"/>
            </a:endParaRPr>
          </a:p>
        </p:txBody>
      </p:sp>
      <p:sp>
        <p:nvSpPr>
          <p:cNvPr id="2110" name=""/>
          <p:cNvSpPr txBox="1"/>
          <p:nvPr/>
        </p:nvSpPr>
        <p:spPr>
          <a:xfrm>
            <a:off x="533520" y="1600200"/>
            <a:ext cx="8229600" cy="4525920"/>
          </a:xfrm>
          <a:prstGeom prst="rect">
            <a:avLst/>
          </a:prstGeom>
          <a:noFill/>
          <a:ln w="0">
            <a:noFill/>
          </a:ln>
        </p:spPr>
        <p:txBody>
          <a:bodyPr lIns="89280" rIns="89280" tIns="53640" bIns="53640" anchor="t">
            <a:norm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tephen Pruitt, Ph.D.</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enior Vice President</a:t>
            </a:r>
            <a:br>
              <a:rPr sz="3600"/>
            </a:b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1"/>
              </a:rPr>
              <a:t>spruitt@achieve.org</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600" spc="-1" strike="noStrike">
              <a:solidFill>
                <a:srgbClr val="000000"/>
              </a:solidFill>
              <a:latin typeface="Arial"/>
            </a:endParaRPr>
          </a:p>
          <a:p>
            <a:pPr algn="ctr">
              <a:spcBef>
                <a:spcPts val="4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2"/>
              </a:rPr>
              <a:t>www.nextgenscience.org</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11" name="Picture 6" descr=""/>
          <p:cNvPicPr/>
          <p:nvPr/>
        </p:nvPicPr>
        <p:blipFill>
          <a:blip r:embed="rId3"/>
          <a:stretch/>
        </p:blipFill>
        <p:spPr>
          <a:xfrm>
            <a:off x="228600" y="2438280"/>
            <a:ext cx="1673280" cy="2225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71b5"/>
                </a:solidFill>
                <a:latin typeface="Calibri"/>
              </a:rPr>
              <a:t>On the Web</a:t>
            </a:r>
            <a:endParaRPr b="0" lang="en-US" sz="3100" spc="-1" strike="noStrike">
              <a:solidFill>
                <a:srgbClr val="0071b5"/>
              </a:solidFill>
              <a:latin typeface="Calibri"/>
            </a:endParaRPr>
          </a:p>
        </p:txBody>
      </p:sp>
      <p:sp>
        <p:nvSpPr>
          <p:cNvPr id="2113" name=""/>
          <p:cNvSpPr txBox="1"/>
          <p:nvPr/>
        </p:nvSpPr>
        <p:spPr>
          <a:xfrm>
            <a:off x="75960" y="3730320"/>
            <a:ext cx="8491320" cy="180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nextgenscience.org </a:t>
            </a:r>
            <a:r>
              <a:rPr b="1" lang="en-US" sz="3200" spc="-1" strike="noStrike">
                <a:solidFill>
                  <a:srgbClr val="0071b5"/>
                </a:solidFill>
                <a:latin typeface="Calibri"/>
              </a:rPr>
              <a:t>                      </a:t>
            </a:r>
            <a:r>
              <a:rPr b="0" lang="en-US" sz="3200" spc="-1" strike="noStrike" u="sng">
                <a:solidFill>
                  <a:srgbClr val="0000ff"/>
                </a:solidFill>
                <a:uFillTx/>
                <a:latin typeface="Calibri"/>
                <a:hlinkClick r:id="rId2"/>
              </a:rPr>
              <a:t>nsta.org/ngss</a:t>
            </a:r>
            <a:endParaRPr b="0" lang="en-US" sz="3200" spc="-1" strike="noStrike">
              <a:solidFill>
                <a:srgbClr val="000000"/>
              </a:solidFill>
              <a:latin typeface="Calibri"/>
            </a:endParaRPr>
          </a:p>
        </p:txBody>
      </p:sp>
      <p:pic>
        <p:nvPicPr>
          <p:cNvPr id="2114" name="Picture 2" descr="https://encrypted-tbn0.gstatic.com/images?q=tbn:ANd9GcQNi47KKsC1-YJ5XF5qCUkCsnNkm3zyJNUtoKIeKMmV-ZFSVXA"/>
          <p:cNvPicPr/>
          <p:nvPr/>
        </p:nvPicPr>
        <p:blipFill>
          <a:blip r:embed="rId3"/>
          <a:srcRect l="6968" t="7208" r="6515" b="7765"/>
          <a:stretch/>
        </p:blipFill>
        <p:spPr>
          <a:xfrm>
            <a:off x="4554360" y="1073160"/>
            <a:ext cx="3472200" cy="2279520"/>
          </a:xfrm>
          <a:prstGeom prst="rect">
            <a:avLst/>
          </a:prstGeom>
          <a:ln w="0">
            <a:noFill/>
          </a:ln>
        </p:spPr>
      </p:pic>
      <p:pic>
        <p:nvPicPr>
          <p:cNvPr id="2115" name="Picture 4" descr="http://columbiabusinesstimes.com/wp-content/uploads/2012/05/PC-Computer.jpg"/>
          <p:cNvPicPr/>
          <p:nvPr/>
        </p:nvPicPr>
        <p:blipFill>
          <a:blip r:embed="rId4"/>
          <a:srcRect l="8445" t="10143" r="9112" b="4803"/>
          <a:stretch/>
        </p:blipFill>
        <p:spPr>
          <a:xfrm>
            <a:off x="457200" y="1244520"/>
            <a:ext cx="3429000" cy="2565360"/>
          </a:xfrm>
          <a:prstGeom prst="rect">
            <a:avLst/>
          </a:prstGeom>
          <a:ln w="0">
            <a:noFill/>
          </a:ln>
        </p:spPr>
      </p:pic>
      <p:pic>
        <p:nvPicPr>
          <p:cNvPr id="2116" name="Picture 5" descr=""/>
          <p:cNvPicPr/>
          <p:nvPr/>
        </p:nvPicPr>
        <p:blipFill>
          <a:blip r:embed="rId5"/>
          <a:srcRect l="0" t="0" r="0" b="33226"/>
          <a:stretch/>
        </p:blipFill>
        <p:spPr>
          <a:xfrm>
            <a:off x="685800" y="1506600"/>
            <a:ext cx="2133720" cy="1338120"/>
          </a:xfrm>
          <a:prstGeom prst="rect">
            <a:avLst/>
          </a:prstGeom>
          <a:ln w="0">
            <a:noFill/>
          </a:ln>
        </p:spPr>
      </p:pic>
      <p:pic>
        <p:nvPicPr>
          <p:cNvPr id="2117" name="Picture 6" descr=""/>
          <p:cNvPicPr/>
          <p:nvPr/>
        </p:nvPicPr>
        <p:blipFill>
          <a:blip r:embed="rId6"/>
          <a:srcRect l="0" t="0" r="0" b="19395"/>
          <a:stretch/>
        </p:blipFill>
        <p:spPr>
          <a:xfrm>
            <a:off x="5064120" y="1270080"/>
            <a:ext cx="2479680" cy="1555560"/>
          </a:xfrm>
          <a:prstGeom prst="rect">
            <a:avLst/>
          </a:prstGeom>
          <a:ln w="0">
            <a:noFill/>
          </a:ln>
        </p:spPr>
      </p:pic>
      <p:pic>
        <p:nvPicPr>
          <p:cNvPr id="2118" name="Picture 1" descr=""/>
          <p:cNvPicPr/>
          <p:nvPr/>
        </p:nvPicPr>
        <p:blipFill>
          <a:blip r:embed="rId7"/>
          <a:srcRect l="37903" t="0" r="0" b="0"/>
          <a:stretch/>
        </p:blipFill>
        <p:spPr>
          <a:xfrm>
            <a:off x="3568680" y="4344840"/>
            <a:ext cx="1970280" cy="2378160"/>
          </a:xfrm>
          <a:prstGeom prst="rect">
            <a:avLst/>
          </a:prstGeom>
          <a:ln w="0">
            <a:noFill/>
          </a:ln>
        </p:spPr>
      </p:pic>
      <p:sp>
        <p:nvSpPr>
          <p:cNvPr id="2119" name="TextBox 2"/>
          <p:cNvSpPr/>
          <p:nvPr/>
        </p:nvSpPr>
        <p:spPr>
          <a:xfrm>
            <a:off x="685800" y="52434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u="sng">
                <a:solidFill>
                  <a:srgbClr val="0000ff"/>
                </a:solidFill>
                <a:uFillTx/>
                <a:latin typeface="Calibri"/>
                <a:hlinkClick r:id="rId8"/>
              </a:rPr>
              <a:t>A Framework for K-12 Science Education</a:t>
            </a:r>
            <a:br>
              <a:rPr sz="1800"/>
            </a:br>
            <a:br>
              <a:rPr sz="1800"/>
            </a:br>
            <a:endParaRPr b="0" lang="en-US" sz="1800" spc="-1" strike="noStrike">
              <a:solidFill>
                <a:srgbClr val="000000"/>
              </a:solidFill>
              <a:latin typeface="Calibri"/>
            </a:endParaRPr>
          </a:p>
        </p:txBody>
      </p:sp>
      <p:pic>
        <p:nvPicPr>
          <p:cNvPr id="2120" name="Picture 3" descr=""/>
          <p:cNvPicPr/>
          <p:nvPr/>
        </p:nvPicPr>
        <p:blipFill>
          <a:blip r:embed="rId9"/>
          <a:stretch/>
        </p:blipFill>
        <p:spPr>
          <a:xfrm>
            <a:off x="3809880" y="4495680"/>
            <a:ext cx="1524240" cy="201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TextBox 1"/>
          <p:cNvSpPr/>
          <p:nvPr/>
        </p:nvSpPr>
        <p:spPr>
          <a:xfrm>
            <a:off x="685800" y="457200"/>
            <a:ext cx="7672320" cy="15570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000000"/>
                </a:solidFill>
                <a:latin typeface="Arial"/>
              </a:rPr>
              <a:t>The Next Generation Science Standards are being reviewed by the State Board of Education.  Officially, the Board is reviewing an amendment to Regulation 501 of the Delaware Administrative code.</a:t>
            </a:r>
            <a:endParaRPr b="0" lang="en-US" sz="2400" spc="-1" strike="noStrike">
              <a:solidFill>
                <a:srgbClr val="000000"/>
              </a:solidFill>
              <a:latin typeface="Calibri"/>
            </a:endParaRPr>
          </a:p>
        </p:txBody>
      </p:sp>
      <p:sp>
        <p:nvSpPr>
          <p:cNvPr id="2046" name="TextBox 3"/>
          <p:cNvSpPr/>
          <p:nvPr/>
        </p:nvSpPr>
        <p:spPr>
          <a:xfrm>
            <a:off x="685800" y="2286000"/>
            <a:ext cx="7672320" cy="3324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u="sng">
                <a:solidFill>
                  <a:srgbClr val="0000ff"/>
                </a:solidFill>
                <a:uFillTx/>
                <a:latin typeface="Arial"/>
                <a:hlinkClick r:id="rId1"/>
              </a:rPr>
              <a:t>http://regulations.delaware.gov/register/august2013/proposed/17%20DE%20Reg%20148%2008-01-13.htm</a:t>
            </a:r>
            <a:r>
              <a:rPr b="0" lang="en-US" sz="2800" spc="-1" strike="noStrike">
                <a:solidFill>
                  <a:srgbClr val="000000"/>
                </a:solidFill>
                <a:latin typeface="Arial"/>
              </a:rPr>
              <a:t>.  </a:t>
            </a:r>
            <a:r>
              <a:rPr b="0" lang="en-US" sz="2400" spc="-1" strike="noStrike">
                <a:solidFill>
                  <a:srgbClr val="000000"/>
                </a:solidFill>
                <a:latin typeface="Arial"/>
              </a:rPr>
              <a:t>Public comment is invited by the Dept of Education until September 5, 2013.  Comments must be submitted </a:t>
            </a:r>
            <a:r>
              <a:rPr b="0" lang="en-US" sz="2400" spc="-1" strike="noStrike" u="sng">
                <a:solidFill>
                  <a:srgbClr val="000000"/>
                </a:solidFill>
                <a:uFillTx/>
                <a:latin typeface="Arial"/>
              </a:rPr>
              <a:t>in </a:t>
            </a:r>
            <a:r>
              <a:rPr b="0" i="1" lang="en-US" sz="2400" spc="-1" strike="noStrike" u="sng">
                <a:solidFill>
                  <a:srgbClr val="000000"/>
                </a:solidFill>
                <a:uFillTx/>
                <a:latin typeface="Arial"/>
              </a:rPr>
              <a:t>writing </a:t>
            </a:r>
            <a:r>
              <a:rPr b="0" lang="en-US" sz="2400" spc="-1" strike="noStrike">
                <a:solidFill>
                  <a:srgbClr val="000000"/>
                </a:solidFill>
                <a:latin typeface="Arial"/>
              </a:rPr>
              <a:t>to </a:t>
            </a:r>
            <a:endParaRPr b="0" lang="en-US" sz="2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Arial"/>
              </a:rPr>
              <a:t>Susan Haberstroh, Department of Education  401 Federal Street, Suite 2</a:t>
            </a:r>
            <a:endParaRPr b="0" lang="en-US" sz="28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Arial"/>
              </a:rPr>
              <a:t>Dover, Delaware 1990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7" name="Rectangle 1"/>
          <p:cNvSpPr/>
          <p:nvPr/>
        </p:nvSpPr>
        <p:spPr>
          <a:xfrm>
            <a:off x="0" y="2571840"/>
            <a:ext cx="9144000" cy="160812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rPr>
              <a:t>What’s Different about the Next Generation Science Standards?</a:t>
            </a:r>
            <a:endParaRPr b="0" lang="en-US" sz="4600" spc="-1" strike="noStrike">
              <a:solidFill>
                <a:srgbClr val="000000"/>
              </a:solidFill>
              <a:latin typeface="Calibri"/>
            </a:endParaRPr>
          </a:p>
        </p:txBody>
      </p:sp>
      <p:pic>
        <p:nvPicPr>
          <p:cNvPr id="2048" name="Picture 10" descr=""/>
          <p:cNvPicPr/>
          <p:nvPr/>
        </p:nvPicPr>
        <p:blipFill>
          <a:blip r:embed="rId2"/>
          <a:stretch/>
        </p:blipFill>
        <p:spPr>
          <a:xfrm>
            <a:off x="2730600" y="385920"/>
            <a:ext cx="3365280" cy="1503360"/>
          </a:xfrm>
          <a:prstGeom prst="rect">
            <a:avLst/>
          </a:prstGeom>
          <a:ln w="0">
            <a:noFill/>
          </a:ln>
        </p:spPr>
      </p:pic>
      <p:pic>
        <p:nvPicPr>
          <p:cNvPr id="2049" name="Picture 3" descr=""/>
          <p:cNvPicPr/>
          <p:nvPr/>
        </p:nvPicPr>
        <p:blipFill>
          <a:blip r:embed="rId3"/>
          <a:stretch/>
        </p:blipFill>
        <p:spPr>
          <a:xfrm>
            <a:off x="76320" y="76320"/>
            <a:ext cx="761760" cy="101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4680"/>
            <a:ext cx="8229600" cy="792000"/>
          </a:xfrm>
          <a:prstGeom prst="rect">
            <a:avLst/>
          </a:prstGeom>
          <a:noFill/>
          <a:ln w="0">
            <a:noFill/>
          </a:ln>
        </p:spPr>
        <p:txBody>
          <a:bodyPr lIns="88560" rIns="88560" tIns="50760" bIns="50760" anchor="ctr">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3200" spc="-1" strike="noStrike">
                <a:solidFill>
                  <a:srgbClr val="000000"/>
                </a:solidFill>
                <a:latin typeface="Arial"/>
              </a:rPr>
              <a:t>Conceptual Shifts in the NGSS</a:t>
            </a:r>
            <a:endParaRPr b="0" lang="en-US" sz="3200" spc="-1" strike="noStrike">
              <a:solidFill>
                <a:srgbClr val="000000"/>
              </a:solidFill>
              <a:latin typeface="Arial"/>
            </a:endParaRPr>
          </a:p>
        </p:txBody>
      </p:sp>
      <p:sp>
        <p:nvSpPr>
          <p:cNvPr id="2051" name=""/>
          <p:cNvSpPr txBox="1"/>
          <p:nvPr/>
        </p:nvSpPr>
        <p:spPr>
          <a:xfrm>
            <a:off x="457200" y="1828440"/>
            <a:ext cx="8229600" cy="4808520"/>
          </a:xfrm>
          <a:prstGeom prst="rect">
            <a:avLst/>
          </a:prstGeom>
          <a:noFill/>
          <a:ln w="0">
            <a:noFill/>
          </a:ln>
        </p:spPr>
        <p:txBody>
          <a:bodyPr lIns="88560" rIns="88560" tIns="50760" bIns="50760" anchor="t">
            <a:normAutofit fontScale="99000"/>
          </a:bodyPr>
          <a:p>
            <a:pPr marL="309600" indent="-309600">
              <a:lnSpc>
                <a:spcPct val="80000"/>
              </a:lnSpc>
              <a:buClr>
                <a:srgbClr val="303a96"/>
              </a:buClr>
              <a:buFont typeface="Helvetica"/>
              <a:buAutoNum type="arabi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K-12 Science Education Should Reflect the Interconnected Nature of Science as it is Practiced and Experienced in the Real World.</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Wingding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ext Generation Science Standards are student performance expectations – NOT curriculum.</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3"/>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science concepts build coherently from K-12.</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4"/>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Focus on Deeper Understanding of Content as well as Application of Content.</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Science and Engineering are Integrated in the NGSS from K–12. </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re designed to prepare students for college, career, and citizenship.</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nd Common Core State Standards (English Language Arts and Mathematics) are Aligned. </a:t>
            </a:r>
            <a:endParaRPr b="0" lang="en-US" sz="1700" spc="-1" strike="noStrike">
              <a:solidFill>
                <a:srgbClr val="000000"/>
              </a:solidFill>
              <a:latin typeface="Arial"/>
            </a:endParaRPr>
          </a:p>
          <a:p>
            <a:pPr marL="309600" indent="-309600">
              <a:lnSpc>
                <a:spcPct val="70000"/>
              </a:lnSpc>
              <a:spcBef>
                <a:spcPts val="425"/>
              </a:spcBef>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700" spc="-1" strike="noStrike">
              <a:solidFill>
                <a:srgbClr val="000000"/>
              </a:solidFill>
              <a:latin typeface="Arial"/>
            </a:endParaRPr>
          </a:p>
          <a:p>
            <a:pPr marL="309600" indent="-309600">
              <a:lnSpc>
                <a:spcPct val="70000"/>
              </a:lnSpc>
              <a:spcBef>
                <a:spcPts val="425"/>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Three Dimensions Intertwined</a:t>
            </a:r>
            <a:endParaRPr b="0" lang="en-US" sz="3200" spc="-1" strike="noStrike">
              <a:solidFill>
                <a:srgbClr val="000000"/>
              </a:solidFill>
              <a:latin typeface="Arial"/>
            </a:endParaRPr>
          </a:p>
        </p:txBody>
      </p:sp>
      <p:sp>
        <p:nvSpPr>
          <p:cNvPr id="2053" name=""/>
          <p:cNvSpPr txBox="1"/>
          <p:nvPr/>
        </p:nvSpPr>
        <p:spPr>
          <a:xfrm>
            <a:off x="4571640" y="1643040"/>
            <a:ext cx="4343400" cy="4524480"/>
          </a:xfrm>
          <a:prstGeom prst="rect">
            <a:avLst/>
          </a:prstGeom>
          <a:noFill/>
          <a:ln w="9360">
            <a:solidFill>
              <a:srgbClr val="000000"/>
            </a:solidFill>
            <a:miter/>
          </a:ln>
        </p:spPr>
        <p:txBody>
          <a:bodyPr anchor="t">
            <a:normAutofit/>
          </a:bodyPr>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The NGSS are written as Performance Expectations</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NGSS will require contextual application of the three dimensions by students</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Focus is on how and why as well as what</a:t>
            </a:r>
            <a:endParaRPr b="0" lang="en-US" sz="2500" spc="-1" strike="noStrike">
              <a:solidFill>
                <a:srgbClr val="000000"/>
              </a:solidFill>
              <a:latin typeface="Arial"/>
            </a:endParaRPr>
          </a:p>
        </p:txBody>
      </p:sp>
      <p:pic>
        <p:nvPicPr>
          <p:cNvPr id="2054" name="Picture 2" descr="C:\Users\spruitt\AppData\Local\Microsoft\Windows\Temporary Internet Files\Content.Outlook\VAFBDWU5\weave.jpg"/>
          <p:cNvPicPr/>
          <p:nvPr/>
        </p:nvPicPr>
        <p:blipFill>
          <a:blip r:embed="rId1"/>
          <a:stretch/>
        </p:blipFill>
        <p:spPr>
          <a:xfrm>
            <a:off x="254160" y="1773360"/>
            <a:ext cx="4243320" cy="4155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Weaving Practices with Content – Not</a:t>
            </a:r>
            <a:br>
              <a:rPr sz="2800"/>
            </a:br>
            <a:r>
              <a:rPr b="0" lang="en-US" sz="2800" spc="-1" strike="noStrike">
                <a:solidFill>
                  <a:srgbClr val="000000"/>
                </a:solidFill>
                <a:latin typeface="Arial"/>
              </a:rPr>
              <a:t>Just the NGSS</a:t>
            </a:r>
            <a:endParaRPr b="0" lang="en-US" sz="2800" spc="-1" strike="noStrike">
              <a:solidFill>
                <a:srgbClr val="000000"/>
              </a:solidFill>
              <a:latin typeface="Arial"/>
            </a:endParaRPr>
          </a:p>
        </p:txBody>
      </p:sp>
      <p:sp>
        <p:nvSpPr>
          <p:cNvPr id="2056" name=""/>
          <p:cNvSpPr txBox="1"/>
          <p:nvPr/>
        </p:nvSpPr>
        <p:spPr>
          <a:xfrm>
            <a:off x="533520" y="1600200"/>
            <a:ext cx="822960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K-12 Science Education Framework</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New Advanced Placement Coursework and Assessment</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PISA 2015</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Vision and Change in Undergraduate Biology</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A New Biology for the 21</a:t>
            </a:r>
            <a:r>
              <a:rPr b="0" lang="en-US" sz="2800" spc="-1" strike="noStrike" baseline="30000">
                <a:solidFill>
                  <a:srgbClr val="000000"/>
                </a:solidFill>
                <a:latin typeface="Arial"/>
              </a:rPr>
              <a:t>st</a:t>
            </a:r>
            <a:r>
              <a:rPr b="0" lang="en-US" sz="2800" spc="-1" strike="noStrike">
                <a:solidFill>
                  <a:srgbClr val="000000"/>
                </a:solidFill>
                <a:latin typeface="Arial"/>
              </a:rPr>
              <a:t> Century</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cientific Foundations for Future Physicians</a:t>
            </a:r>
            <a:endParaRPr b="0" lang="en-US" sz="2800" spc="-1" strike="noStrike">
              <a:solidFill>
                <a:srgbClr val="000000"/>
              </a:solidFill>
              <a:latin typeface="Arial"/>
            </a:endParaRPr>
          </a:p>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7" name="Picture 186385" descr=""/>
          <p:cNvPicPr/>
          <p:nvPr/>
        </p:nvPicPr>
        <p:blipFill>
          <a:blip r:embed="rId1"/>
          <a:srcRect l="12823" t="22643" r="4999" b="22393"/>
          <a:stretch/>
        </p:blipFill>
        <p:spPr>
          <a:xfrm>
            <a:off x="1295280" y="1797120"/>
            <a:ext cx="7513920" cy="3841560"/>
          </a:xfrm>
          <a:prstGeom prst="rect">
            <a:avLst/>
          </a:prstGeom>
          <a:ln w="0">
            <a:noFill/>
          </a:ln>
        </p:spPr>
      </p:pic>
      <p:sp>
        <p:nvSpPr>
          <p:cNvPr id="20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 model for how to envision the three </a:t>
            </a:r>
            <a:br>
              <a:rPr sz="3200"/>
            </a:br>
            <a:r>
              <a:rPr b="0" lang="en-US" sz="3200" spc="-1" strike="noStrike">
                <a:solidFill>
                  <a:srgbClr val="000000"/>
                </a:solidFill>
                <a:latin typeface="Arial"/>
              </a:rPr>
              <a:t>Dimensions of the NGSS</a:t>
            </a:r>
            <a:endParaRPr b="0" lang="en-US" sz="3200" spc="-1" strike="noStrike">
              <a:solidFill>
                <a:srgbClr val="000000"/>
              </a:solidFill>
              <a:latin typeface="Arial"/>
            </a:endParaRPr>
          </a:p>
        </p:txBody>
      </p:sp>
      <p:sp>
        <p:nvSpPr>
          <p:cNvPr id="2059" name="TextBox 186382"/>
          <p:cNvSpPr/>
          <p:nvPr/>
        </p:nvSpPr>
        <p:spPr>
          <a:xfrm>
            <a:off x="1187280" y="2876400"/>
            <a:ext cx="312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0" name="TextBox 47"/>
          <p:cNvSpPr/>
          <p:nvPr/>
        </p:nvSpPr>
        <p:spPr>
          <a:xfrm>
            <a:off x="1295280" y="4849920"/>
            <a:ext cx="312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1" name="TextBox 48"/>
          <p:cNvSpPr/>
          <p:nvPr/>
        </p:nvSpPr>
        <p:spPr>
          <a:xfrm>
            <a:off x="3389400" y="4145040"/>
            <a:ext cx="3124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2" name="TextBox 49"/>
          <p:cNvSpPr/>
          <p:nvPr/>
        </p:nvSpPr>
        <p:spPr>
          <a:xfrm>
            <a:off x="4906800" y="2849400"/>
            <a:ext cx="312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3" name="TextBox 50"/>
          <p:cNvSpPr/>
          <p:nvPr/>
        </p:nvSpPr>
        <p:spPr>
          <a:xfrm>
            <a:off x="4971960" y="4844880"/>
            <a:ext cx="312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4" name="TextBox 186383"/>
          <p:cNvSpPr/>
          <p:nvPr/>
        </p:nvSpPr>
        <p:spPr>
          <a:xfrm>
            <a:off x="4189320" y="2522520"/>
            <a:ext cx="114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5" name="TextBox 53"/>
          <p:cNvSpPr/>
          <p:nvPr/>
        </p:nvSpPr>
        <p:spPr>
          <a:xfrm>
            <a:off x="6124680" y="375768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6" name="TextBox 58"/>
          <p:cNvSpPr/>
          <p:nvPr/>
        </p:nvSpPr>
        <p:spPr>
          <a:xfrm>
            <a:off x="7578720" y="25369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7" name="TextBox 61"/>
          <p:cNvSpPr/>
          <p:nvPr/>
        </p:nvSpPr>
        <p:spPr>
          <a:xfrm>
            <a:off x="2475000" y="37242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8" name="TextBox 65"/>
          <p:cNvSpPr/>
          <p:nvPr/>
        </p:nvSpPr>
        <p:spPr>
          <a:xfrm>
            <a:off x="4395960" y="501984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9" name="TextBox 66"/>
          <p:cNvSpPr/>
          <p:nvPr/>
        </p:nvSpPr>
        <p:spPr>
          <a:xfrm>
            <a:off x="7677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70" name="TextBox 67"/>
          <p:cNvSpPr/>
          <p:nvPr/>
        </p:nvSpPr>
        <p:spPr>
          <a:xfrm>
            <a:off x="2475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pic>
        <p:nvPicPr>
          <p:cNvPr id="2071" name="Picture 46" descr="C:\Users\edward.mcgrath\AppData\Local\Microsoft\Windows\Temporary Internet Files\Content.IE5\P077J5IX\MC900334846[1].wmf"/>
          <p:cNvPicPr/>
          <p:nvPr/>
        </p:nvPicPr>
        <p:blipFill>
          <a:blip r:embed="rId2"/>
          <a:stretch/>
        </p:blipFill>
        <p:spPr>
          <a:xfrm rot="18912000">
            <a:off x="1422000" y="5235120"/>
            <a:ext cx="1436760" cy="2094120"/>
          </a:xfrm>
          <a:prstGeom prst="rect">
            <a:avLst/>
          </a:prstGeom>
          <a:ln w="0">
            <a:noFill/>
          </a:ln>
        </p:spPr>
      </p:pic>
      <p:sp>
        <p:nvSpPr>
          <p:cNvPr id="2072" name="TextBox 186384"/>
          <p:cNvSpPr/>
          <p:nvPr/>
        </p:nvSpPr>
        <p:spPr>
          <a:xfrm>
            <a:off x="2136600" y="6254640"/>
            <a:ext cx="982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rPr>
              <a:t>practices</a:t>
            </a:r>
            <a:endParaRPr b="0" lang="en-US" sz="1600" spc="-1" strike="noStrike">
              <a:solidFill>
                <a:srgbClr val="000000"/>
              </a:solidFill>
              <a:latin typeface="Calibri"/>
            </a:endParaRPr>
          </a:p>
        </p:txBody>
      </p:sp>
      <p:pic>
        <p:nvPicPr>
          <p:cNvPr id="2073" name="Picture 47" descr="C:\Users\edward.mcgrath\AppData\Local\Microsoft\Windows\Temporary Internet Files\Content.IE5\W1666V91\MC900334850[1].wmf"/>
          <p:cNvPicPr/>
          <p:nvPr/>
        </p:nvPicPr>
        <p:blipFill>
          <a:blip r:embed="rId3"/>
          <a:stretch/>
        </p:blipFill>
        <p:spPr>
          <a:xfrm rot="19828200">
            <a:off x="4784400" y="5786280"/>
            <a:ext cx="1835280" cy="1144800"/>
          </a:xfrm>
          <a:prstGeom prst="rect">
            <a:avLst/>
          </a:prstGeom>
          <a:ln w="0">
            <a:noFill/>
          </a:ln>
        </p:spPr>
      </p:pic>
      <p:sp>
        <p:nvSpPr>
          <p:cNvPr id="2074" name="TextBox 72"/>
          <p:cNvSpPr/>
          <p:nvPr/>
        </p:nvSpPr>
        <p:spPr>
          <a:xfrm>
            <a:off x="5143680" y="632628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rPr>
              <a:t>practices</a:t>
            </a:r>
            <a:endParaRPr b="0" lang="en-US" sz="1600" spc="-1" strike="noStrike">
              <a:solidFill>
                <a:srgbClr val="000000"/>
              </a:solidFill>
              <a:latin typeface="Calibri"/>
            </a:endParaRPr>
          </a:p>
        </p:txBody>
      </p:sp>
      <p:pic>
        <p:nvPicPr>
          <p:cNvPr id="2075" name="Picture 49" descr="C:\Users\edward.mcgrath\AppData\Local\Microsoft\Windows\Temporary Internet Files\Content.IE5\W1666V91\MC900364032[1].wmf"/>
          <p:cNvPicPr/>
          <p:nvPr/>
        </p:nvPicPr>
        <p:blipFill>
          <a:blip r:embed="rId4"/>
          <a:stretch/>
        </p:blipFill>
        <p:spPr>
          <a:xfrm>
            <a:off x="6896160" y="5791320"/>
            <a:ext cx="1336680" cy="1015920"/>
          </a:xfrm>
          <a:prstGeom prst="rect">
            <a:avLst/>
          </a:prstGeom>
          <a:ln w="0">
            <a:noFill/>
          </a:ln>
        </p:spPr>
      </p:pic>
      <p:sp>
        <p:nvSpPr>
          <p:cNvPr id="2076" name="TextBox 75"/>
          <p:cNvSpPr/>
          <p:nvPr/>
        </p:nvSpPr>
        <p:spPr>
          <a:xfrm>
            <a:off x="6997680" y="651996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rPr>
              <a:t>practices</a:t>
            </a:r>
            <a:endParaRPr b="0" lang="en-US" sz="1600" spc="-1" strike="noStrike">
              <a:solidFill>
                <a:srgbClr val="000000"/>
              </a:solidFill>
              <a:latin typeface="Calibri"/>
            </a:endParaRPr>
          </a:p>
        </p:txBody>
      </p:sp>
      <p:sp>
        <p:nvSpPr>
          <p:cNvPr id="2077" name="TextBox 78"/>
          <p:cNvSpPr/>
          <p:nvPr/>
        </p:nvSpPr>
        <p:spPr>
          <a:xfrm>
            <a:off x="3238560" y="3486240"/>
            <a:ext cx="3124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78" name="AutoShape 3"/>
          <p:cNvSpPr/>
          <p:nvPr/>
        </p:nvSpPr>
        <p:spPr>
          <a:xfrm>
            <a:off x="914400" y="1676520"/>
            <a:ext cx="7772400" cy="373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Science and Engineering Practices, </a:t>
            </a:r>
            <a:br>
              <a:rPr sz="3200"/>
            </a:br>
            <a:r>
              <a:rPr b="0" lang="en-US" sz="3200" spc="-1" strike="noStrike">
                <a:solidFill>
                  <a:srgbClr val="000000"/>
                </a:solidFill>
                <a:latin typeface="Arial"/>
              </a:rPr>
              <a:t>not just teaching strategies</a:t>
            </a:r>
            <a:endParaRPr b="0" lang="en-US" sz="3200" spc="-1" strike="noStrike">
              <a:solidFill>
                <a:srgbClr val="000000"/>
              </a:solidFill>
              <a:latin typeface="Arial"/>
            </a:endParaRPr>
          </a:p>
        </p:txBody>
      </p:sp>
      <p:sp>
        <p:nvSpPr>
          <p:cNvPr id="2080" name=""/>
          <p:cNvSpPr txBox="1"/>
          <p:nvPr/>
        </p:nvSpPr>
        <p:spPr>
          <a:xfrm>
            <a:off x="533520" y="1600200"/>
            <a:ext cx="822960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cience and Engineering Practices are how scientific knowledge is acqui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While Practices should be used in instruction, all students need to demonstrate achievement in their use and applica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200" spc="-1" strike="noStrike">
              <a:solidFill>
                <a:srgbClr val="000000"/>
              </a:solidFill>
              <a:latin typeface="Arial"/>
            </a:endParaRPr>
          </a:p>
        </p:txBody>
      </p:sp>
      <p:pic>
        <p:nvPicPr>
          <p:cNvPr id="2082" name="Picture 5" descr=""/>
          <p:cNvPicPr/>
          <p:nvPr/>
        </p:nvPicPr>
        <p:blipFill>
          <a:blip r:embed="rId1"/>
          <a:srcRect l="16047" t="27380" r="0" b="3855"/>
          <a:stretch/>
        </p:blipFill>
        <p:spPr>
          <a:xfrm>
            <a:off x="-152280" y="0"/>
            <a:ext cx="115156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53:04Z</dcterms:created>
  <dc:creator>criley;ajones</dc:creator>
  <dc:description/>
  <dc:language>en-US</dc:language>
  <cp:lastModifiedBy>McGrath Edward J</cp:lastModifiedBy>
  <cp:lastPrinted>2011-09-28T13:59:30Z</cp:lastPrinted>
  <dcterms:modified xsi:type="dcterms:W3CDTF">2013-08-14T13:51:15Z</dcterms:modified>
  <cp:revision>480</cp:revision>
  <dc:subject/>
  <dc:title>Slide 1</dc:title>
</cp:coreProperties>
</file>